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ct" ContentType="image/x-pict"/>
  <Override PartName="/ppt/media/image11.pct" ContentType="image/x-pict"/>
  <Override PartName="/ppt/media/image13.png" ContentType="image/png"/>
  <Override PartName="/ppt/media/image10.pct" ContentType="image/x-pict"/>
  <Override PartName="/ppt/media/image6.jpeg" ContentType="image/jpeg"/>
  <Override PartName="/ppt/media/image5.png" ContentType="image/png"/>
  <Override PartName="/ppt/media/image8.jpeg" ContentType="image/jpeg"/>
  <Override PartName="/ppt/media/Pig.wav" ContentType="audio/x-wav"/>
  <Override PartName="/ppt/media/image7.png" ContentType="image/png"/>
  <Override PartName="/ppt/media/image21.png" ContentType="image/png"/>
  <Override PartName="/ppt/media/image1.pct" ContentType="image/x-pict"/>
  <Override PartName="/ppt/media/image20.jpeg" ContentType="image/jpeg"/>
  <Override PartName="/ppt/media/image18.png" ContentType="image/png"/>
  <Override PartName="/ppt/media/image15.pct" ContentType="image/x-pict"/>
  <Override PartName="/ppt/media/image19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EC05-A375-4E13-A97B-95CE7CA8E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ATP used is like a match to light a fire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on energy /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abilizes glucose enough to split it in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 carbon sugar went into the Krebs cycle and was taken apart completely. Two CO2 molecules were produced from that 2 carbon sugar. Glucose has now been fully oxidiz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ere’s all the ATP??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time the carbons are oxidized, an NAD+ is being redu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ait…where’s all the ATP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stop at pyruvate == not enough energy pro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ate still has a lot of energy in it that has not been captu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still has 3 carbons! There is still energy stored in those bo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most all eukaryotic cells have mitochond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may be 1 very large mitochondrion or 100s to 1000s of individual mitochond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 of mitochondria is correlated with aerobic metabolic acti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690480" indent="-122040"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e activity = more energy needed = more mitochond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ells would have a lot of mitochondr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cel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 c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fully oxidized carbon == can’t get any more energy ou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a fully reduced carbon == good fuel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ecause completely oxidized…already released all energy it can release … no longer valuable to cell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what’s the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int is to make ATP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s of glycolysis are very similar among all organisms. The genes that code for them are highly con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 good measure for evolutionary studies. Compare eukaryotes, bacteria &amp; archaea using glycolysis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= 3.5 b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in cytosol = doesn’t require a membrane-bound organel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.7 b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tic bacteria / proto-blue-gre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karyotes = 1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-bound organell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es that all life/organisms sh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49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3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6.png"/><Relationship Id="rId6" Type="http://schemas.openxmlformats.org/officeDocument/2006/relationships/audio" Target="../media/Pig.wav"/><Relationship Id="rId7" Type="http://schemas.openxmlformats.org/officeDocument/2006/relationships/audio" Target="../media/Pig.wav"/><Relationship Id="rId8" Type="http://schemas.openxmlformats.org/officeDocument/2006/relationships/audio" Target="../media/Pig.wav"/><Relationship Id="rId9" Type="http://schemas.openxmlformats.org/officeDocument/2006/relationships/audio" Target="../media/Pig.wav"/><Relationship Id="rId10" Type="http://schemas.openxmlformats.org/officeDocument/2006/relationships/audio" Target="../media/Pig.wav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ct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audio" Target="../media/Pig.wav"/><Relationship Id="rId4" Type="http://schemas.openxmlformats.org/officeDocument/2006/relationships/audio" Target="../media/Pig.wav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3.png"/><Relationship Id="rId4" Type="http://schemas.openxmlformats.org/officeDocument/2006/relationships/audio" Target="../media/Pig.wav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7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1.pct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image" Target="../media/image13.png"/><Relationship Id="rId3" Type="http://schemas.openxmlformats.org/officeDocument/2006/relationships/audio" Target="../media/Pig.wav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audio" Target="../media/Pig.wav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333080"/>
            <a:ext cx="3657600" cy="483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10 reactions</a:t>
            </a:r>
            <a:endParaRPr b="1" lang="en-US" sz="3400" spc="-1" strike="noStrike">
              <a:solidFill>
                <a:srgbClr val="0f116a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vert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glucose (6C)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o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pyruvate (3C)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s: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4 ATP &amp; 2 NAD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sumes: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AT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et: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ATP &amp; 2 NAD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2080" y="457200"/>
            <a:ext cx="5553000" cy="632448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50720" y="462600"/>
            <a:ext cx="24681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lucose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-C-C-C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84640" y="121608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71280" y="2118240"/>
            <a:ext cx="32299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ructose-1,6b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-C-C-C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39800" y="3351600"/>
            <a:ext cx="16419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HA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2960" y="3351600"/>
            <a:ext cx="16419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3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32400" y="6040800"/>
            <a:ext cx="17686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09120" y="68544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07240" y="1378080"/>
            <a:ext cx="838080" cy="57924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160 h 579240"/>
              <a:gd name="textAreaBottom" fmla="*/ 420120 h 57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667200" y="890640"/>
            <a:ext cx="1517760" cy="852480"/>
            <a:chOff x="6667200" y="890640"/>
            <a:chExt cx="1517760" cy="852480"/>
          </a:xfrm>
        </p:grpSpPr>
        <p:sp>
          <p:nvSpPr>
            <p:cNvPr id="111" name=""/>
            <p:cNvSpPr/>
            <p:nvPr/>
          </p:nvSpPr>
          <p:spPr>
            <a:xfrm>
              <a:off x="6884640" y="890640"/>
              <a:ext cx="1300320" cy="85248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667200" y="108252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14560" y="1509840"/>
            <a:ext cx="1536840" cy="901080"/>
            <a:chOff x="6514560" y="1509840"/>
            <a:chExt cx="1536840" cy="901080"/>
          </a:xfrm>
        </p:grpSpPr>
        <p:sp>
          <p:nvSpPr>
            <p:cNvPr id="114" name=""/>
            <p:cNvSpPr/>
            <p:nvPr/>
          </p:nvSpPr>
          <p:spPr>
            <a:xfrm>
              <a:off x="7029360" y="170496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4560" y="150984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908840" y="1203480"/>
            <a:ext cx="984240" cy="85860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7488000" y="5686560"/>
            <a:ext cx="1517760" cy="852480"/>
            <a:chOff x="7488000" y="5686560"/>
            <a:chExt cx="1517760" cy="852480"/>
          </a:xfrm>
        </p:grpSpPr>
        <p:sp>
          <p:nvSpPr>
            <p:cNvPr id="118" name=""/>
            <p:cNvSpPr/>
            <p:nvPr/>
          </p:nvSpPr>
          <p:spPr>
            <a:xfrm>
              <a:off x="7705440" y="5686560"/>
              <a:ext cx="1300320" cy="85248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488000" y="587844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7328880" y="5004000"/>
            <a:ext cx="1536840" cy="901080"/>
            <a:chOff x="7328880" y="5004000"/>
            <a:chExt cx="1536840" cy="901080"/>
          </a:xfrm>
        </p:grpSpPr>
        <p:sp>
          <p:nvSpPr>
            <p:cNvPr id="121" name=""/>
            <p:cNvSpPr/>
            <p:nvPr/>
          </p:nvSpPr>
          <p:spPr>
            <a:xfrm>
              <a:off x="7843680" y="519912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28880" y="500400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6707160" y="5551560"/>
            <a:ext cx="838080" cy="55548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520 h 555480"/>
              <a:gd name="textAreaBottom" fmla="*/ 398520 h 55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00" stAng="-5400000" swAng="-5400000"/>
                <a:lnTo>
                  <a:pt x="0" y="11541"/>
                </a:lnTo>
                <a:arcTo wR="21600" hR="7900" stAng="10800000" swAng="-2963054"/>
                <a:lnTo>
                  <a:pt x="15136" y="21238"/>
                </a:lnTo>
                <a:lnTo>
                  <a:pt x="21600" y="17620"/>
                </a:lnTo>
                <a:lnTo>
                  <a:pt x="15136" y="13277"/>
                </a:lnTo>
                <a:lnTo>
                  <a:pt x="15136" y="15437"/>
                </a:lnTo>
                <a:arcTo wR="21600" hR="7900" stAng="7836946" swAng="2666039"/>
                <a:lnTo>
                  <a:pt x="581" y="9720"/>
                </a:lnTo>
                <a:arcTo wR="21600" hR="7900" stAng="-10502985" swAng="5102985"/>
                <a:close/>
              </a:path>
              <a:path fill="darkenLess" w="21600" h="21600">
                <a:moveTo>
                  <a:pt x="21600" y="0"/>
                </a:moveTo>
                <a:arcTo wR="21600" hR="7900" stAng="-5400000" swAng="-5400000"/>
                <a:lnTo>
                  <a:pt x="0" y="7900"/>
                </a:lnTo>
                <a:arcTo wR="21600" hR="7900" stAng="10800000" swAng="-297015"/>
                <a:lnTo>
                  <a:pt x="581" y="9720"/>
                </a:lnTo>
                <a:arcTo wR="21600" hR="7900" stAng="-10502985" swAng="510298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327440" y="3746880"/>
            <a:ext cx="1536840" cy="901080"/>
            <a:chOff x="7327440" y="3746880"/>
            <a:chExt cx="1536840" cy="901080"/>
          </a:xfrm>
        </p:grpSpPr>
        <p:sp>
          <p:nvSpPr>
            <p:cNvPr id="125" name=""/>
            <p:cNvSpPr/>
            <p:nvPr/>
          </p:nvSpPr>
          <p:spPr>
            <a:xfrm>
              <a:off x="7842240" y="394200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NAD</a:t>
              </a:r>
              <a:r>
                <a:rPr b="1" lang="en-US" sz="2400" spc="-1" strike="noStrike" baseline="30000">
                  <a:solidFill>
                    <a:srgbClr val="660066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27440" y="374688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7480080" y="4376880"/>
            <a:ext cx="1433880" cy="718920"/>
            <a:chOff x="7480080" y="4376880"/>
            <a:chExt cx="1433880" cy="718920"/>
          </a:xfrm>
        </p:grpSpPr>
        <p:sp>
          <p:nvSpPr>
            <p:cNvPr id="128" name=""/>
            <p:cNvSpPr/>
            <p:nvPr/>
          </p:nvSpPr>
          <p:spPr>
            <a:xfrm>
              <a:off x="7480080" y="438912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7756560" y="4376880"/>
              <a:ext cx="1157400" cy="71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"/>
          <p:cNvSpPr/>
          <p:nvPr/>
        </p:nvSpPr>
        <p:spPr>
          <a:xfrm>
            <a:off x="6707160" y="4200480"/>
            <a:ext cx="838080" cy="55584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520 h 555840"/>
              <a:gd name="textAreaBottom" fmla="*/ 398520 h 5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00" stAng="-5400000" swAng="-5400000"/>
                <a:lnTo>
                  <a:pt x="0" y="11541"/>
                </a:lnTo>
                <a:arcTo wR="21600" hR="7900" stAng="10800000" swAng="-2963054"/>
                <a:lnTo>
                  <a:pt x="15136" y="21238"/>
                </a:lnTo>
                <a:lnTo>
                  <a:pt x="21600" y="17620"/>
                </a:lnTo>
                <a:lnTo>
                  <a:pt x="15136" y="13277"/>
                </a:lnTo>
                <a:lnTo>
                  <a:pt x="15136" y="15437"/>
                </a:lnTo>
                <a:arcTo wR="21600" hR="7900" stAng="7836946" swAng="2666039"/>
                <a:lnTo>
                  <a:pt x="581" y="9720"/>
                </a:lnTo>
                <a:arcTo wR="21600" hR="7900" stAng="-10502985" swAng="5102985"/>
                <a:close/>
              </a:path>
              <a:path fill="darkenLess" w="21600" h="21600">
                <a:moveTo>
                  <a:pt x="21600" y="0"/>
                </a:moveTo>
                <a:arcTo wR="21600" hR="7900" stAng="-5400000" swAng="-5400000"/>
                <a:lnTo>
                  <a:pt x="0" y="7900"/>
                </a:lnTo>
                <a:arcTo wR="21600" hR="7900" stAng="10800000" swAng="-297015"/>
                <a:lnTo>
                  <a:pt x="581" y="9720"/>
                </a:lnTo>
                <a:arcTo wR="21600" hR="7900" stAng="-10502985" swAng="510298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84640" y="173340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92480" y="292248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43680" y="292248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43680" y="423720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43680" y="488484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43680" y="553392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5085720" y="3234600"/>
            <a:ext cx="380880" cy="588960"/>
          </a:xfrm>
          <a:prstGeom prst="downArrow">
            <a:avLst>
              <a:gd name="adj1" fmla="val 50000"/>
              <a:gd name="adj2" fmla="val 38658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45920" y="5217480"/>
            <a:ext cx="639360" cy="668520"/>
            <a:chOff x="6145920" y="5217480"/>
            <a:chExt cx="639360" cy="668520"/>
          </a:xfrm>
        </p:grpSpPr>
        <p:sp>
          <p:nvSpPr>
            <p:cNvPr id="139" name=""/>
            <p:cNvSpPr/>
            <p:nvPr/>
          </p:nvSpPr>
          <p:spPr>
            <a:xfrm flipH="1" rot="14452800">
              <a:off x="6277680" y="5465520"/>
              <a:ext cx="421920" cy="317520"/>
            </a:xfrm>
            <a:custGeom>
              <a:avLst/>
              <a:gdLst>
                <a:gd name="textAreaLeft" fmla="*/ 360 w 421920"/>
                <a:gd name="textAreaRight" fmla="*/ 422640 w 421920"/>
                <a:gd name="textAreaTop" fmla="*/ 0 h 317520"/>
                <a:gd name="textAreaBottom" fmla="*/ 31752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015675"/>
                  <a:lnTo>
                    <a:pt x="5909" y="1171"/>
                  </a:lnTo>
                  <a:arcTo wR="10800" hR="10800" stAng="-7015675" swAng="7015675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45920" y="5217480"/>
              <a:ext cx="639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i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117400" y="4239720"/>
            <a:ext cx="946800" cy="544680"/>
            <a:chOff x="5117400" y="4239720"/>
            <a:chExt cx="946800" cy="544680"/>
          </a:xfrm>
        </p:grpSpPr>
        <p:sp>
          <p:nvSpPr>
            <p:cNvPr id="142" name=""/>
            <p:cNvSpPr/>
            <p:nvPr/>
          </p:nvSpPr>
          <p:spPr>
            <a:xfrm>
              <a:off x="5641920" y="4260960"/>
              <a:ext cx="422280" cy="3175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317520"/>
                <a:gd name="textAreaBottom" fmla="*/ 31752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17400" y="4239720"/>
              <a:ext cx="639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i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143040" y="4036680"/>
            <a:ext cx="604440" cy="641160"/>
            <a:chOff x="6143040" y="4036680"/>
            <a:chExt cx="604440" cy="641160"/>
          </a:xfrm>
        </p:grpSpPr>
        <p:sp>
          <p:nvSpPr>
            <p:cNvPr id="145" name=""/>
            <p:cNvSpPr/>
            <p:nvPr/>
          </p:nvSpPr>
          <p:spPr>
            <a:xfrm flipH="1" rot="14452800">
              <a:off x="6277680" y="4257360"/>
              <a:ext cx="421920" cy="317520"/>
            </a:xfrm>
            <a:custGeom>
              <a:avLst/>
              <a:gdLst>
                <a:gd name="textAreaLeft" fmla="*/ 360 w 421920"/>
                <a:gd name="textAreaRight" fmla="*/ 422640 w 421920"/>
                <a:gd name="textAreaTop" fmla="*/ 0 h 317520"/>
                <a:gd name="textAreaBottom" fmla="*/ 31752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015675"/>
                  <a:lnTo>
                    <a:pt x="5909" y="1171"/>
                  </a:lnTo>
                  <a:arcTo wR="10800" hR="10800" stAng="-7015675" swAng="7015675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43040" y="4036680"/>
              <a:ext cx="60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4959360" y="1752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24360" y="2209680"/>
            <a:ext cx="4190760" cy="4191120"/>
          </a:xfrm>
          <a:prstGeom prst="ellipse">
            <a:avLst/>
          </a:prstGeom>
          <a:noFill/>
          <a:ln w="12708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963960" y="2057400"/>
            <a:ext cx="668520" cy="609480"/>
            <a:chOff x="3963960" y="2057400"/>
            <a:chExt cx="668520" cy="609480"/>
          </a:xfrm>
        </p:grpSpPr>
        <p:sp>
          <p:nvSpPr>
            <p:cNvPr id="275" name=""/>
            <p:cNvSpPr/>
            <p:nvPr/>
          </p:nvSpPr>
          <p:spPr>
            <a:xfrm>
              <a:off x="3992760" y="2057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963960" y="2086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6683400" y="3200400"/>
            <a:ext cx="668520" cy="609480"/>
            <a:chOff x="6683400" y="3200400"/>
            <a:chExt cx="668520" cy="609480"/>
          </a:xfrm>
        </p:grpSpPr>
        <p:sp>
          <p:nvSpPr>
            <p:cNvPr id="278" name=""/>
            <p:cNvSpPr/>
            <p:nvPr/>
          </p:nvSpPr>
          <p:spPr>
            <a:xfrm>
              <a:off x="6712200" y="3200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683400" y="3229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6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940200" y="5943600"/>
            <a:ext cx="668520" cy="609480"/>
            <a:chOff x="3940200" y="5943600"/>
            <a:chExt cx="668520" cy="609480"/>
          </a:xfrm>
        </p:grpSpPr>
        <p:sp>
          <p:nvSpPr>
            <p:cNvPr id="281" name=""/>
            <p:cNvSpPr/>
            <p:nvPr/>
          </p:nvSpPr>
          <p:spPr>
            <a:xfrm>
              <a:off x="3969000" y="59436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40200" y="59731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2797200" y="4800600"/>
            <a:ext cx="668520" cy="609480"/>
            <a:chOff x="2797200" y="4800600"/>
            <a:chExt cx="668520" cy="609480"/>
          </a:xfrm>
        </p:grpSpPr>
        <p:sp>
          <p:nvSpPr>
            <p:cNvPr id="284" name=""/>
            <p:cNvSpPr/>
            <p:nvPr/>
          </p:nvSpPr>
          <p:spPr>
            <a:xfrm>
              <a:off x="2826000" y="48006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97200" y="48301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2797200" y="3200400"/>
            <a:ext cx="668520" cy="609480"/>
            <a:chOff x="2797200" y="3200400"/>
            <a:chExt cx="668520" cy="609480"/>
          </a:xfrm>
        </p:grpSpPr>
        <p:sp>
          <p:nvSpPr>
            <p:cNvPr id="287" name=""/>
            <p:cNvSpPr/>
            <p:nvPr/>
          </p:nvSpPr>
          <p:spPr>
            <a:xfrm>
              <a:off x="2826000" y="3200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797200" y="3229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4778280" y="1219320"/>
            <a:ext cx="668520" cy="609480"/>
            <a:chOff x="4778280" y="1219320"/>
            <a:chExt cx="668520" cy="609480"/>
          </a:xfrm>
        </p:grpSpPr>
        <p:sp>
          <p:nvSpPr>
            <p:cNvPr id="290" name=""/>
            <p:cNvSpPr/>
            <p:nvPr/>
          </p:nvSpPr>
          <p:spPr>
            <a:xfrm>
              <a:off x="4807080" y="121932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78280" y="1233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2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5616360" y="2057400"/>
            <a:ext cx="668520" cy="609480"/>
            <a:chOff x="5616360" y="2057400"/>
            <a:chExt cx="668520" cy="609480"/>
          </a:xfrm>
        </p:grpSpPr>
        <p:sp>
          <p:nvSpPr>
            <p:cNvPr id="293" name=""/>
            <p:cNvSpPr/>
            <p:nvPr/>
          </p:nvSpPr>
          <p:spPr>
            <a:xfrm>
              <a:off x="5645160" y="205740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616360" y="207108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6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6759360" y="4724280"/>
            <a:ext cx="668520" cy="609480"/>
            <a:chOff x="6759360" y="4724280"/>
            <a:chExt cx="668520" cy="609480"/>
          </a:xfrm>
        </p:grpSpPr>
        <p:sp>
          <p:nvSpPr>
            <p:cNvPr id="296" name=""/>
            <p:cNvSpPr/>
            <p:nvPr/>
          </p:nvSpPr>
          <p:spPr>
            <a:xfrm>
              <a:off x="6788160" y="472428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59360" y="473796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5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692680" y="5867280"/>
            <a:ext cx="668520" cy="609480"/>
            <a:chOff x="5692680" y="5867280"/>
            <a:chExt cx="668520" cy="609480"/>
          </a:xfrm>
        </p:grpSpPr>
        <p:sp>
          <p:nvSpPr>
            <p:cNvPr id="299" name=""/>
            <p:cNvSpPr/>
            <p:nvPr/>
          </p:nvSpPr>
          <p:spPr>
            <a:xfrm>
              <a:off x="5721480" y="586728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92680" y="588096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7367760" y="3962520"/>
            <a:ext cx="1536840" cy="679680"/>
            <a:chOff x="7367760" y="3962520"/>
            <a:chExt cx="1536840" cy="679680"/>
          </a:xfrm>
        </p:grpSpPr>
        <p:sp>
          <p:nvSpPr>
            <p:cNvPr id="302" name=""/>
            <p:cNvSpPr/>
            <p:nvPr/>
          </p:nvSpPr>
          <p:spPr>
            <a:xfrm>
              <a:off x="7367760" y="3962520"/>
              <a:ext cx="838080" cy="53316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16280" y="416700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6681960" y="5715000"/>
            <a:ext cx="1536840" cy="679680"/>
            <a:chOff x="6681960" y="5715000"/>
            <a:chExt cx="1536840" cy="679680"/>
          </a:xfrm>
        </p:grpSpPr>
        <p:sp>
          <p:nvSpPr>
            <p:cNvPr id="305" name=""/>
            <p:cNvSpPr/>
            <p:nvPr/>
          </p:nvSpPr>
          <p:spPr>
            <a:xfrm>
              <a:off x="6681960" y="5715000"/>
              <a:ext cx="838080" cy="53316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530480" y="591948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6147000" y="190404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itrat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66600" y="1172160"/>
            <a:ext cx="162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etyl Co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7160" y="684720"/>
            <a:ext cx="4132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Count the carbons!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21414600">
            <a:off x="480060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21414600">
            <a:off x="472428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201840" y="1219320"/>
            <a:ext cx="668520" cy="609480"/>
            <a:chOff x="3201840" y="1219320"/>
            <a:chExt cx="668520" cy="609480"/>
          </a:xfrm>
        </p:grpSpPr>
        <p:sp>
          <p:nvSpPr>
            <p:cNvPr id="313" name=""/>
            <p:cNvSpPr/>
            <p:nvPr/>
          </p:nvSpPr>
          <p:spPr>
            <a:xfrm>
              <a:off x="3230640" y="121932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201840" y="1233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3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 rot="16200000">
            <a:off x="4171680" y="1104480"/>
            <a:ext cx="304920" cy="838080"/>
          </a:xfrm>
          <a:prstGeom prst="downArrow">
            <a:avLst>
              <a:gd name="adj1" fmla="val 50000"/>
              <a:gd name="adj2" fmla="val 68713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853280" y="1172160"/>
            <a:ext cx="134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yruvat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797720" y="43855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a"/>
                </a:solidFill>
                <a:latin typeface="Arial"/>
              </a:rPr>
              <a:t>x</a:t>
            </a:r>
            <a:r>
              <a:rPr b="1" lang="en-US" sz="4000" spc="-1" strike="noStrike">
                <a:solidFill>
                  <a:srgbClr val="00006a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66720" y="3457440"/>
            <a:ext cx="16711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oxidation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f sugar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320" y="3505320"/>
            <a:ext cx="26668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This happens </a:t>
            </a:r>
            <a:r>
              <a:rPr b="1" lang="en-US" sz="2600" spc="-1" strike="noStrike" u="sng">
                <a:solidFill>
                  <a:srgbClr val="0f116a"/>
                </a:solidFill>
                <a:uFillTx/>
                <a:latin typeface="Arial"/>
              </a:rPr>
              <a:t>twice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for each glucose molecule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024360" y="2209680"/>
            <a:ext cx="4190760" cy="4191120"/>
          </a:xfrm>
          <a:prstGeom prst="ellipse">
            <a:avLst/>
          </a:prstGeom>
          <a:noFill/>
          <a:ln w="12708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959360" y="1752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963960" y="2057400"/>
            <a:ext cx="668520" cy="609480"/>
            <a:chOff x="3963960" y="2057400"/>
            <a:chExt cx="668520" cy="609480"/>
          </a:xfrm>
        </p:grpSpPr>
        <p:sp>
          <p:nvSpPr>
            <p:cNvPr id="323" name=""/>
            <p:cNvSpPr/>
            <p:nvPr/>
          </p:nvSpPr>
          <p:spPr>
            <a:xfrm>
              <a:off x="3992760" y="2057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963960" y="2086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6683400" y="3200400"/>
            <a:ext cx="668520" cy="609480"/>
            <a:chOff x="6683400" y="3200400"/>
            <a:chExt cx="668520" cy="609480"/>
          </a:xfrm>
        </p:grpSpPr>
        <p:sp>
          <p:nvSpPr>
            <p:cNvPr id="326" name=""/>
            <p:cNvSpPr/>
            <p:nvPr/>
          </p:nvSpPr>
          <p:spPr>
            <a:xfrm>
              <a:off x="6712200" y="3200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683400" y="3229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6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3940200" y="5943600"/>
            <a:ext cx="668520" cy="609480"/>
            <a:chOff x="3940200" y="5943600"/>
            <a:chExt cx="668520" cy="609480"/>
          </a:xfrm>
        </p:grpSpPr>
        <p:sp>
          <p:nvSpPr>
            <p:cNvPr id="329" name=""/>
            <p:cNvSpPr/>
            <p:nvPr/>
          </p:nvSpPr>
          <p:spPr>
            <a:xfrm>
              <a:off x="3969000" y="59436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940200" y="59731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797200" y="4800600"/>
            <a:ext cx="668520" cy="609480"/>
            <a:chOff x="2797200" y="4800600"/>
            <a:chExt cx="668520" cy="609480"/>
          </a:xfrm>
        </p:grpSpPr>
        <p:sp>
          <p:nvSpPr>
            <p:cNvPr id="332" name=""/>
            <p:cNvSpPr/>
            <p:nvPr/>
          </p:nvSpPr>
          <p:spPr>
            <a:xfrm>
              <a:off x="2826000" y="48006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97200" y="48301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797200" y="3200400"/>
            <a:ext cx="668520" cy="609480"/>
            <a:chOff x="2797200" y="3200400"/>
            <a:chExt cx="668520" cy="609480"/>
          </a:xfrm>
        </p:grpSpPr>
        <p:sp>
          <p:nvSpPr>
            <p:cNvPr id="335" name=""/>
            <p:cNvSpPr/>
            <p:nvPr/>
          </p:nvSpPr>
          <p:spPr>
            <a:xfrm>
              <a:off x="2826000" y="3200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797200" y="3229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4778280" y="1219320"/>
            <a:ext cx="668520" cy="609480"/>
            <a:chOff x="4778280" y="1219320"/>
            <a:chExt cx="668520" cy="609480"/>
          </a:xfrm>
        </p:grpSpPr>
        <p:sp>
          <p:nvSpPr>
            <p:cNvPr id="338" name=""/>
            <p:cNvSpPr/>
            <p:nvPr/>
          </p:nvSpPr>
          <p:spPr>
            <a:xfrm>
              <a:off x="4807080" y="121932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778280" y="1233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2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616360" y="2057400"/>
            <a:ext cx="668520" cy="609480"/>
            <a:chOff x="5616360" y="2057400"/>
            <a:chExt cx="668520" cy="609480"/>
          </a:xfrm>
        </p:grpSpPr>
        <p:sp>
          <p:nvSpPr>
            <p:cNvPr id="341" name=""/>
            <p:cNvSpPr/>
            <p:nvPr/>
          </p:nvSpPr>
          <p:spPr>
            <a:xfrm>
              <a:off x="5645160" y="205740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16360" y="207108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6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759360" y="4724280"/>
            <a:ext cx="668520" cy="609480"/>
            <a:chOff x="6759360" y="4724280"/>
            <a:chExt cx="668520" cy="609480"/>
          </a:xfrm>
        </p:grpSpPr>
        <p:sp>
          <p:nvSpPr>
            <p:cNvPr id="344" name=""/>
            <p:cNvSpPr/>
            <p:nvPr/>
          </p:nvSpPr>
          <p:spPr>
            <a:xfrm>
              <a:off x="6788160" y="472428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59360" y="473796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5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5692680" y="5867280"/>
            <a:ext cx="668520" cy="609480"/>
            <a:chOff x="5692680" y="5867280"/>
            <a:chExt cx="668520" cy="609480"/>
          </a:xfrm>
        </p:grpSpPr>
        <p:sp>
          <p:nvSpPr>
            <p:cNvPr id="347" name=""/>
            <p:cNvSpPr/>
            <p:nvPr/>
          </p:nvSpPr>
          <p:spPr>
            <a:xfrm>
              <a:off x="5721480" y="586728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692680" y="588096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7367760" y="3687840"/>
            <a:ext cx="1536840" cy="679680"/>
            <a:chOff x="7367760" y="3687840"/>
            <a:chExt cx="1536840" cy="679680"/>
          </a:xfrm>
        </p:grpSpPr>
        <p:sp>
          <p:nvSpPr>
            <p:cNvPr id="350" name=""/>
            <p:cNvSpPr/>
            <p:nvPr/>
          </p:nvSpPr>
          <p:spPr>
            <a:xfrm>
              <a:off x="7367760" y="3687840"/>
              <a:ext cx="838080" cy="53316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216280" y="389232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986520" y="5410080"/>
            <a:ext cx="1537200" cy="679680"/>
            <a:chOff x="6986520" y="5410080"/>
            <a:chExt cx="1537200" cy="679680"/>
          </a:xfrm>
        </p:grpSpPr>
        <p:sp>
          <p:nvSpPr>
            <p:cNvPr id="353" name=""/>
            <p:cNvSpPr/>
            <p:nvPr/>
          </p:nvSpPr>
          <p:spPr>
            <a:xfrm>
              <a:off x="6986520" y="5410080"/>
              <a:ext cx="838440" cy="533160"/>
            </a:xfrm>
            <a:custGeom>
              <a:avLst/>
              <a:gdLst>
                <a:gd name="textAreaLeft" fmla="*/ 112320 w 838440"/>
                <a:gd name="textAreaRight" fmla="*/ 726120 w 83844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835400" y="561456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6147000" y="190404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itrat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466600" y="1172160"/>
            <a:ext cx="162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etyl Co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7880" y="685800"/>
            <a:ext cx="5833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Count the electron carriers!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21414600">
            <a:off x="480060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21414600">
            <a:off x="472428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3201840" y="1219320"/>
            <a:ext cx="668520" cy="609480"/>
            <a:chOff x="3201840" y="1219320"/>
            <a:chExt cx="668520" cy="609480"/>
          </a:xfrm>
        </p:grpSpPr>
        <p:sp>
          <p:nvSpPr>
            <p:cNvPr id="361" name=""/>
            <p:cNvSpPr/>
            <p:nvPr/>
          </p:nvSpPr>
          <p:spPr>
            <a:xfrm>
              <a:off x="3230640" y="121932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201840" y="1233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3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 rot="16200000">
            <a:off x="4171680" y="1104480"/>
            <a:ext cx="304920" cy="838080"/>
          </a:xfrm>
          <a:prstGeom prst="downArrow">
            <a:avLst>
              <a:gd name="adj1" fmla="val 50000"/>
              <a:gd name="adj2" fmla="val 68713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853280" y="1172160"/>
            <a:ext cx="134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yruvat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97600" y="3303720"/>
            <a:ext cx="1807560" cy="118476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reduction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f electron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carrier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320" y="3505320"/>
            <a:ext cx="26668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This happens twice for each glucose molecule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795920" y="46587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a"/>
                </a:solidFill>
                <a:latin typeface="Arial"/>
              </a:rPr>
              <a:t>x</a:t>
            </a:r>
            <a:r>
              <a:rPr b="1" lang="en-US" sz="4000" spc="-1" strike="noStrike">
                <a:solidFill>
                  <a:srgbClr val="00006a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7104240" y="777960"/>
            <a:ext cx="1536840" cy="679680"/>
            <a:chOff x="7104240" y="777960"/>
            <a:chExt cx="1536840" cy="679680"/>
          </a:xfrm>
        </p:grpSpPr>
        <p:sp>
          <p:nvSpPr>
            <p:cNvPr id="369" name=""/>
            <p:cNvSpPr/>
            <p:nvPr/>
          </p:nvSpPr>
          <p:spPr>
            <a:xfrm>
              <a:off x="7104240" y="777960"/>
              <a:ext cx="838080" cy="53316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952760" y="98244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7286760" y="4363920"/>
            <a:ext cx="1857240" cy="868320"/>
            <a:chOff x="7286760" y="4363920"/>
            <a:chExt cx="1857240" cy="868320"/>
          </a:xfrm>
        </p:grpSpPr>
        <p:grpSp>
          <p:nvGrpSpPr>
            <p:cNvPr id="372" name=""/>
            <p:cNvGrpSpPr/>
            <p:nvPr/>
          </p:nvGrpSpPr>
          <p:grpSpPr>
            <a:xfrm>
              <a:off x="7286760" y="4373640"/>
              <a:ext cx="1849680" cy="656280"/>
              <a:chOff x="7286760" y="4373640"/>
              <a:chExt cx="1849680" cy="656280"/>
            </a:xfrm>
          </p:grpSpPr>
          <p:sp>
            <p:nvSpPr>
              <p:cNvPr id="373" name=""/>
              <p:cNvSpPr/>
              <p:nvPr/>
            </p:nvSpPr>
            <p:spPr>
              <a:xfrm>
                <a:off x="7286760" y="4373640"/>
                <a:ext cx="838080" cy="533160"/>
              </a:xfrm>
              <a:custGeom>
                <a:avLst/>
                <a:gdLst>
                  <a:gd name="textAreaLeft" fmla="*/ 112320 w 838080"/>
                  <a:gd name="textAreaRight" fmla="*/ 725760 w 838080"/>
                  <a:gd name="textAreaTop" fmla="*/ 93240 h 533160"/>
                  <a:gd name="textAreaBottom" fmla="*/ 38664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c8f0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151120" y="4600800"/>
                <a:ext cx="9853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8091360" y="4363920"/>
              <a:ext cx="1052640" cy="86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6" name=""/>
          <p:cNvGrpSpPr/>
          <p:nvPr/>
        </p:nvGrpSpPr>
        <p:grpSpPr>
          <a:xfrm>
            <a:off x="6453360" y="5946840"/>
            <a:ext cx="1849680" cy="911160"/>
            <a:chOff x="6453360" y="5946840"/>
            <a:chExt cx="1849680" cy="911160"/>
          </a:xfrm>
        </p:grpSpPr>
        <p:grpSp>
          <p:nvGrpSpPr>
            <p:cNvPr id="377" name=""/>
            <p:cNvGrpSpPr/>
            <p:nvPr/>
          </p:nvGrpSpPr>
          <p:grpSpPr>
            <a:xfrm>
              <a:off x="6453360" y="5946840"/>
              <a:ext cx="1849680" cy="656640"/>
              <a:chOff x="6453360" y="5946840"/>
              <a:chExt cx="1849680" cy="656640"/>
            </a:xfrm>
          </p:grpSpPr>
          <p:sp>
            <p:nvSpPr>
              <p:cNvPr id="378" name=""/>
              <p:cNvSpPr/>
              <p:nvPr/>
            </p:nvSpPr>
            <p:spPr>
              <a:xfrm>
                <a:off x="6453360" y="5946840"/>
                <a:ext cx="838080" cy="533160"/>
              </a:xfrm>
              <a:custGeom>
                <a:avLst/>
                <a:gdLst>
                  <a:gd name="textAreaLeft" fmla="*/ 112320 w 838080"/>
                  <a:gd name="textAreaRight" fmla="*/ 725760 w 838080"/>
                  <a:gd name="textAreaTop" fmla="*/ 93240 h 533160"/>
                  <a:gd name="textAreaBottom" fmla="*/ 38664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c8f0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317720" y="6174360"/>
                <a:ext cx="985320" cy="42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pic>
          <p:nvPicPr>
            <p:cNvPr id="380" name="" descr=""/>
            <p:cNvPicPr/>
            <p:nvPr/>
          </p:nvPicPr>
          <p:blipFill>
            <a:blip r:embed="rId2"/>
            <a:stretch/>
          </p:blipFill>
          <p:spPr>
            <a:xfrm>
              <a:off x="7250040" y="5989680"/>
              <a:ext cx="1052640" cy="86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1" name=""/>
          <p:cNvGrpSpPr/>
          <p:nvPr/>
        </p:nvGrpSpPr>
        <p:grpSpPr>
          <a:xfrm>
            <a:off x="1741320" y="1790640"/>
            <a:ext cx="1839600" cy="1031400"/>
            <a:chOff x="1741320" y="1790640"/>
            <a:chExt cx="1839600" cy="1031400"/>
          </a:xfrm>
        </p:grpSpPr>
        <p:grpSp>
          <p:nvGrpSpPr>
            <p:cNvPr id="382" name=""/>
            <p:cNvGrpSpPr/>
            <p:nvPr/>
          </p:nvGrpSpPr>
          <p:grpSpPr>
            <a:xfrm>
              <a:off x="1830960" y="2135880"/>
              <a:ext cx="1749960" cy="686160"/>
              <a:chOff x="1830960" y="2135880"/>
              <a:chExt cx="1749960" cy="686160"/>
            </a:xfrm>
          </p:grpSpPr>
          <p:sp>
            <p:nvSpPr>
              <p:cNvPr id="383" name=""/>
              <p:cNvSpPr/>
              <p:nvPr/>
            </p:nvSpPr>
            <p:spPr>
              <a:xfrm flipH="1" flipV="1">
                <a:off x="2742840" y="2288520"/>
                <a:ext cx="838080" cy="533160"/>
              </a:xfrm>
              <a:custGeom>
                <a:avLst/>
                <a:gdLst>
                  <a:gd name="textAreaLeft" fmla="*/ 112320 w 838080"/>
                  <a:gd name="textAreaRight" fmla="*/ 725760 w 838080"/>
                  <a:gd name="textAreaTop" fmla="*/ 93240 h 533160"/>
                  <a:gd name="textAreaBottom" fmla="*/ 38664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c8f0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1830600" y="2135880"/>
                <a:ext cx="9853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pic>
          <p:nvPicPr>
            <p:cNvPr id="385" name="" descr=""/>
            <p:cNvPicPr/>
            <p:nvPr/>
          </p:nvPicPr>
          <p:blipFill>
            <a:blip r:embed="rId3"/>
            <a:stretch/>
          </p:blipFill>
          <p:spPr>
            <a:xfrm>
              <a:off x="1741320" y="1790640"/>
              <a:ext cx="1052640" cy="86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6" name=""/>
          <p:cNvGrpSpPr/>
          <p:nvPr/>
        </p:nvGrpSpPr>
        <p:grpSpPr>
          <a:xfrm>
            <a:off x="7023240" y="1409760"/>
            <a:ext cx="1930320" cy="868320"/>
            <a:chOff x="7023240" y="1409760"/>
            <a:chExt cx="1930320" cy="868320"/>
          </a:xfrm>
        </p:grpSpPr>
        <p:grpSp>
          <p:nvGrpSpPr>
            <p:cNvPr id="387" name=""/>
            <p:cNvGrpSpPr/>
            <p:nvPr/>
          </p:nvGrpSpPr>
          <p:grpSpPr>
            <a:xfrm>
              <a:off x="7023240" y="1463760"/>
              <a:ext cx="1849680" cy="656280"/>
              <a:chOff x="7023240" y="1463760"/>
              <a:chExt cx="1849680" cy="656280"/>
            </a:xfrm>
          </p:grpSpPr>
          <p:sp>
            <p:nvSpPr>
              <p:cNvPr id="388" name=""/>
              <p:cNvSpPr/>
              <p:nvPr/>
            </p:nvSpPr>
            <p:spPr>
              <a:xfrm>
                <a:off x="7023240" y="1463760"/>
                <a:ext cx="838080" cy="533160"/>
              </a:xfrm>
              <a:custGeom>
                <a:avLst/>
                <a:gdLst>
                  <a:gd name="textAreaLeft" fmla="*/ 112320 w 838080"/>
                  <a:gd name="textAreaRight" fmla="*/ 725760 w 838080"/>
                  <a:gd name="textAreaTop" fmla="*/ 93240 h 533160"/>
                  <a:gd name="textAreaBottom" fmla="*/ 38664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c8f0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887600" y="1690920"/>
                <a:ext cx="9853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pic>
          <p:nvPicPr>
            <p:cNvPr id="390" name="" descr=""/>
            <p:cNvPicPr/>
            <p:nvPr/>
          </p:nvPicPr>
          <p:blipFill>
            <a:blip r:embed="rId4"/>
            <a:stretch/>
          </p:blipFill>
          <p:spPr>
            <a:xfrm>
              <a:off x="7900920" y="1409760"/>
              <a:ext cx="1052640" cy="86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1" name=""/>
          <p:cNvGrpSpPr/>
          <p:nvPr/>
        </p:nvGrpSpPr>
        <p:grpSpPr>
          <a:xfrm>
            <a:off x="1704960" y="5259240"/>
            <a:ext cx="1876320" cy="1068480"/>
            <a:chOff x="1704960" y="5259240"/>
            <a:chExt cx="1876320" cy="1068480"/>
          </a:xfrm>
        </p:grpSpPr>
        <p:grpSp>
          <p:nvGrpSpPr>
            <p:cNvPr id="392" name=""/>
            <p:cNvGrpSpPr/>
            <p:nvPr/>
          </p:nvGrpSpPr>
          <p:grpSpPr>
            <a:xfrm>
              <a:off x="1762920" y="5617800"/>
              <a:ext cx="1818360" cy="709920"/>
              <a:chOff x="1762920" y="5617800"/>
              <a:chExt cx="1818360" cy="709920"/>
            </a:xfrm>
          </p:grpSpPr>
          <p:sp>
            <p:nvSpPr>
              <p:cNvPr id="393" name=""/>
              <p:cNvSpPr/>
              <p:nvPr/>
            </p:nvSpPr>
            <p:spPr>
              <a:xfrm flipH="1" flipV="1">
                <a:off x="2743200" y="5794200"/>
                <a:ext cx="838080" cy="533520"/>
              </a:xfrm>
              <a:custGeom>
                <a:avLst/>
                <a:gdLst>
                  <a:gd name="textAreaLeft" fmla="*/ 112320 w 838080"/>
                  <a:gd name="textAreaRight" fmla="*/ 725760 w 838080"/>
                  <a:gd name="textAreaTop" fmla="*/ 93240 h 533520"/>
                  <a:gd name="textAreaBottom" fmla="*/ 387000 h 533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c8f0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1762560" y="5617800"/>
                <a:ext cx="104508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FADH</a:t>
                </a:r>
                <a:r>
                  <a:rPr b="1" lang="en-US" sz="2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pic>
          <p:nvPicPr>
            <p:cNvPr id="395" name="" descr=""/>
            <p:cNvPicPr/>
            <p:nvPr/>
          </p:nvPicPr>
          <p:blipFill>
            <a:blip r:embed="rId5"/>
            <a:stretch/>
          </p:blipFill>
          <p:spPr>
            <a:xfrm>
              <a:off x="1704960" y="5259240"/>
              <a:ext cx="1109520" cy="93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6" name=""/>
          <p:cNvGrpSpPr/>
          <p:nvPr/>
        </p:nvGrpSpPr>
        <p:grpSpPr>
          <a:xfrm>
            <a:off x="4211640" y="6148440"/>
            <a:ext cx="1203480" cy="709560"/>
            <a:chOff x="4211640" y="6148440"/>
            <a:chExt cx="1203480" cy="709560"/>
          </a:xfrm>
        </p:grpSpPr>
        <p:sp>
          <p:nvSpPr>
            <p:cNvPr id="397" name=""/>
            <p:cNvSpPr/>
            <p:nvPr/>
          </p:nvSpPr>
          <p:spPr>
            <a:xfrm>
              <a:off x="4331880" y="6148440"/>
              <a:ext cx="1083240" cy="70956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1640" y="6296400"/>
              <a:ext cx="1836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 rot="5400000">
            <a:off x="5206680" y="6215040"/>
            <a:ext cx="235080" cy="555480"/>
          </a:xfrm>
          <a:custGeom>
            <a:avLst/>
            <a:gdLst>
              <a:gd name="textAreaLeft" fmla="*/ 31320 w 235080"/>
              <a:gd name="textAreaRight" fmla="*/ 203760 w 235080"/>
              <a:gd name="textAreaTop" fmla="*/ 93600 h 555480"/>
              <a:gd name="textAreaBottom" fmla="*/ 406440 h 55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82" stAng="-5400000" swAng="-5400000"/>
                <a:lnTo>
                  <a:pt x="0" y="12158"/>
                </a:lnTo>
                <a:arcTo wR="21600" hR="7282" stAng="10800000" swAng="-2824073"/>
                <a:lnTo>
                  <a:pt x="15136" y="21266"/>
                </a:lnTo>
                <a:lnTo>
                  <a:pt x="21600" y="17002"/>
                </a:lnTo>
                <a:lnTo>
                  <a:pt x="15136" y="12070"/>
                </a:lnTo>
                <a:lnTo>
                  <a:pt x="15136" y="14230"/>
                </a:lnTo>
                <a:arcTo wR="21600" hR="7282" stAng="7975927" swAng="2414242"/>
                <a:lnTo>
                  <a:pt x="1247" y="9720"/>
                </a:lnTo>
                <a:arcTo wR="21600" hR="7282" stAng="-10390169" swAng="4990169"/>
                <a:close/>
              </a:path>
              <a:path fill="darkenLess" w="21600" h="21600">
                <a:moveTo>
                  <a:pt x="21600" y="0"/>
                </a:moveTo>
                <a:arcTo wR="21600" hR="7282" stAng="-5400000" swAng="-5400000"/>
                <a:lnTo>
                  <a:pt x="0" y="7282"/>
                </a:lnTo>
                <a:arcTo wR="21600" hR="7282" stAng="10800000" swAng="-409831"/>
                <a:lnTo>
                  <a:pt x="1247" y="9720"/>
                </a:lnTo>
                <a:arcTo wR="21600" hR="7282" stAng="-10390169" swAng="4990169"/>
                <a:close/>
              </a:path>
            </a:pathLst>
          </a:custGeom>
          <a:solidFill>
            <a:srgbClr val="00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7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2697" t="2400" r="2697" b="4561"/>
          <a:stretch/>
        </p:blipFill>
        <p:spPr>
          <a:xfrm>
            <a:off x="3271680" y="466560"/>
            <a:ext cx="5710320" cy="6310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01" name=""/>
          <p:cNvSpPr/>
          <p:nvPr/>
        </p:nvSpPr>
        <p:spPr>
          <a:xfrm>
            <a:off x="685800" y="1371600"/>
            <a:ext cx="2438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o we fully oxidized glucose 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marL="6480" indent="-6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12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marL="6480" indent="-6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Symbol"/>
                <a:ea typeface="Symbol"/>
              </a:rPr>
              <a:t>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marL="6480" indent="-6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marL="6480" indent="-6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&amp; ended up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ith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4 AT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90760" y="684720"/>
            <a:ext cx="2360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Whassup?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 flipH="1">
            <a:off x="1419120" y="5659560"/>
            <a:ext cx="1735200" cy="1073160"/>
          </a:xfrm>
          <a:prstGeom prst="wedgeEllipseCallout">
            <a:avLst>
              <a:gd name="adj1" fmla="val 72597"/>
              <a:gd name="adj2" fmla="val -29291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hat’s th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point?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1707" t="2400" r="5111" b="4441"/>
          <a:stretch/>
        </p:blipFill>
        <p:spPr>
          <a:xfrm>
            <a:off x="4373640" y="1390680"/>
            <a:ext cx="3786120" cy="5371920"/>
          </a:xfrm>
          <a:prstGeom prst="rect">
            <a:avLst/>
          </a:prstGeom>
          <a:ln w="9360">
            <a:solidFill>
              <a:srgbClr val="66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06" name=""/>
          <p:cNvSpPr/>
          <p:nvPr/>
        </p:nvSpPr>
        <p:spPr>
          <a:xfrm>
            <a:off x="582480" y="1371600"/>
            <a:ext cx="38102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Krebs cycle produces large quantities of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electron carrier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ADH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FADH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o to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Electron Transport Chain</a:t>
            </a: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!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5880" y="684720"/>
            <a:ext cx="7954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Electron Carriers = Hydrogen Carriers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 flipH="1">
            <a:off x="1617840" y="5364000"/>
            <a:ext cx="2433600" cy="1430640"/>
          </a:xfrm>
          <a:prstGeom prst="wedgeEllipseCallout">
            <a:avLst>
              <a:gd name="adj1" fmla="val 72370"/>
              <a:gd name="adj2" fmla="val -12819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hat’s so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important about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electron carriers?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6902280" y="1217520"/>
            <a:ext cx="2157480" cy="2675160"/>
            <a:chOff x="6902280" y="1217520"/>
            <a:chExt cx="2157480" cy="2675160"/>
          </a:xfrm>
        </p:grpSpPr>
        <p:pic>
          <p:nvPicPr>
            <p:cNvPr id="411" name="" descr=""/>
            <p:cNvPicPr/>
            <p:nvPr/>
          </p:nvPicPr>
          <p:blipFill>
            <a:blip r:embed="rId3"/>
            <a:srcRect l="22500" t="4504" r="22500" b="4504"/>
            <a:stretch/>
          </p:blipFill>
          <p:spPr>
            <a:xfrm>
              <a:off x="6902280" y="1217520"/>
              <a:ext cx="2157480" cy="26751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412" name=""/>
            <p:cNvSpPr/>
            <p:nvPr/>
          </p:nvSpPr>
          <p:spPr>
            <a:xfrm>
              <a:off x="8310960" y="367344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544160" y="15573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445960" y="15987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466480" y="133020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60320" y="15987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185680" y="15447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125200" y="136224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845840" y="135900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584120" y="124128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7085160" y="3355920"/>
            <a:ext cx="536400" cy="351000"/>
          </a:xfrm>
          <a:prstGeom prst="irregularSeal1">
            <a:avLst/>
          </a:prstGeom>
          <a:solidFill>
            <a:srgbClr val="ffea18"/>
          </a:solidFill>
          <a:ln w="1908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970320" y="2867040"/>
            <a:ext cx="3754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ADP</a:t>
            </a:r>
            <a:br>
              <a:rPr sz="1400"/>
            </a:b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+ P</a:t>
            </a:r>
            <a:r>
              <a:rPr b="1" lang="en-US" sz="1400" spc="-1" strike="noStrike" baseline="-25000">
                <a:solidFill>
                  <a:srgbClr val="0f116a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0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992160" y="1744560"/>
            <a:ext cx="7832880" cy="320040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accounting of Krebs cycle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519552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177012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et gain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=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2 AT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177012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=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8 NADH + 2 FADH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3219120" y="3527280"/>
            <a:ext cx="3075840" cy="1067760"/>
            <a:chOff x="3219120" y="3527280"/>
            <a:chExt cx="3075840" cy="1067760"/>
          </a:xfrm>
        </p:grpSpPr>
        <p:sp>
          <p:nvSpPr>
            <p:cNvPr id="427" name=""/>
            <p:cNvSpPr/>
            <p:nvPr/>
          </p:nvSpPr>
          <p:spPr>
            <a:xfrm flipV="1">
              <a:off x="4281480" y="3527280"/>
              <a:ext cx="914400" cy="60984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81720 h 609840"/>
                <a:gd name="textAreaBottom" fmla="*/ 52812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19120" y="4044240"/>
              <a:ext cx="1303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AD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033520" y="4044240"/>
              <a:ext cx="1261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AT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5295960" y="3987720"/>
            <a:ext cx="1182600" cy="774720"/>
          </a:xfrm>
          <a:prstGeom prst="irregularSeal1">
            <a:avLst/>
          </a:prstGeom>
          <a:solidFill>
            <a:srgbClr val="ffff00"/>
          </a:solidFill>
          <a:ln w="38160">
            <a:solidFill>
              <a:srgbClr val="fe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5392800" y="1300320"/>
            <a:ext cx="1052280" cy="868320"/>
          </a:xfrm>
          <a:prstGeom prst="rect">
            <a:avLst/>
          </a:prstGeom>
          <a:ln w="0">
            <a:noFill/>
          </a:ln>
        </p:spPr>
      </p:pic>
      <p:grpSp>
        <p:nvGrpSpPr>
          <p:cNvPr id="432" name=""/>
          <p:cNvGrpSpPr/>
          <p:nvPr/>
        </p:nvGrpSpPr>
        <p:grpSpPr>
          <a:xfrm>
            <a:off x="283680" y="1849320"/>
            <a:ext cx="8399880" cy="3039840"/>
            <a:chOff x="283680" y="1849320"/>
            <a:chExt cx="8399880" cy="3039840"/>
          </a:xfrm>
        </p:grpSpPr>
        <p:sp>
          <p:nvSpPr>
            <p:cNvPr id="433" name=""/>
            <p:cNvSpPr/>
            <p:nvPr/>
          </p:nvSpPr>
          <p:spPr>
            <a:xfrm>
              <a:off x="283680" y="3038040"/>
              <a:ext cx="6897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1135080" y="1849320"/>
              <a:ext cx="1087200" cy="3039840"/>
              <a:chOff x="1135080" y="1849320"/>
              <a:chExt cx="1087200" cy="3039840"/>
            </a:xfrm>
          </p:grpSpPr>
          <p:sp>
            <p:nvSpPr>
              <p:cNvPr id="435" name=""/>
              <p:cNvSpPr/>
              <p:nvPr/>
            </p:nvSpPr>
            <p:spPr>
              <a:xfrm>
                <a:off x="1135080" y="1944360"/>
                <a:ext cx="896760" cy="2722680"/>
              </a:xfrm>
              <a:prstGeom prst="rect">
                <a:avLst/>
              </a:prstGeom>
              <a:noFill/>
              <a:ln w="1522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650960" y="1849320"/>
                <a:ext cx="571320" cy="3039840"/>
              </a:xfrm>
              <a:prstGeom prst="rect">
                <a:avLst/>
              </a:prstGeom>
              <a:solidFill>
                <a:srgbClr val="b7c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7596360" y="1849320"/>
              <a:ext cx="1087200" cy="3039840"/>
              <a:chOff x="7596360" y="1849320"/>
              <a:chExt cx="1087200" cy="3039840"/>
            </a:xfrm>
          </p:grpSpPr>
          <p:sp>
            <p:nvSpPr>
              <p:cNvPr id="438" name=""/>
              <p:cNvSpPr/>
              <p:nvPr/>
            </p:nvSpPr>
            <p:spPr>
              <a:xfrm flipH="1">
                <a:off x="7786440" y="1944360"/>
                <a:ext cx="896760" cy="2722680"/>
              </a:xfrm>
              <a:prstGeom prst="rect">
                <a:avLst/>
              </a:prstGeom>
              <a:noFill/>
              <a:ln w="1522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7596000" y="1849320"/>
                <a:ext cx="571320" cy="3039840"/>
              </a:xfrm>
              <a:prstGeom prst="rect">
                <a:avLst/>
              </a:prstGeom>
              <a:solidFill>
                <a:srgbClr val="b7c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0" name=""/>
          <p:cNvGrpSpPr/>
          <p:nvPr/>
        </p:nvGrpSpPr>
        <p:grpSpPr>
          <a:xfrm>
            <a:off x="1440720" y="2123640"/>
            <a:ext cx="7132680" cy="1022760"/>
            <a:chOff x="1440720" y="2123640"/>
            <a:chExt cx="7132680" cy="1022760"/>
          </a:xfrm>
        </p:grpSpPr>
        <p:sp>
          <p:nvSpPr>
            <p:cNvPr id="441" name=""/>
            <p:cNvSpPr/>
            <p:nvPr/>
          </p:nvSpPr>
          <p:spPr>
            <a:xfrm>
              <a:off x="4260600" y="2536920"/>
              <a:ext cx="914040" cy="609480"/>
            </a:xfrm>
            <a:custGeom>
              <a:avLst/>
              <a:gdLst>
                <a:gd name="textAreaLeft" fmla="*/ 159840 w 914040"/>
                <a:gd name="textAreaRight" fmla="*/ 662760 w 91404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440720" y="2154960"/>
              <a:ext cx="2860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NAD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FAD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038560" y="2123640"/>
              <a:ext cx="35348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NADH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FADH</a:t>
              </a:r>
              <a:r>
                <a:rPr b="1" lang="en-US" sz="3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1510200" y="3038040"/>
            <a:ext cx="6298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CO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724040" y="359100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3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7048080" y="3587760"/>
            <a:ext cx="1000440" cy="533160"/>
            <a:chOff x="7048080" y="3587760"/>
            <a:chExt cx="1000440" cy="533160"/>
          </a:xfrm>
        </p:grpSpPr>
        <p:sp>
          <p:nvSpPr>
            <p:cNvPr id="447" name=""/>
            <p:cNvSpPr/>
            <p:nvPr/>
          </p:nvSpPr>
          <p:spPr>
            <a:xfrm>
              <a:off x="7048080" y="3611160"/>
              <a:ext cx="50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515360" y="3587760"/>
              <a:ext cx="533160" cy="53316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1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7070760" y="1274760"/>
            <a:ext cx="110952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5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1"/>
          <a:srcRect l="902" t="3646" r="902" b="4857"/>
          <a:stretch/>
        </p:blipFill>
        <p:spPr>
          <a:xfrm>
            <a:off x="633240" y="4011480"/>
            <a:ext cx="4017960" cy="2776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Value of Krebs cycle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8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f the yield is only 2 ATP then how was the Krebs cycle an adaptation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value of NADH &amp; FADH</a:t>
            </a:r>
            <a:r>
              <a:rPr b="1" lang="en-US" sz="2400" spc="-1" strike="noStrike" u="sng" baseline="-25000">
                <a:solidFill>
                  <a:srgbClr val="cc0000"/>
                </a:solidFill>
                <a:uFillTx/>
                <a:latin typeface="Arial"/>
              </a:rPr>
              <a:t>2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electron carriers &amp; H carrier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reduced molecules move electrons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reduced molecules move H</a:t>
            </a:r>
            <a:r>
              <a:rPr b="1" lang="en-US" sz="1800" spc="-1" strike="noStrike" baseline="30000">
                <a:solidFill>
                  <a:srgbClr val="40458c"/>
                </a:solidFill>
                <a:latin typeface="Arial"/>
              </a:rPr>
              <a:t>+ </a:t>
            </a: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ions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to be used in the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Electron Transport Chain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110200" y="4572000"/>
            <a:ext cx="1330200" cy="1041480"/>
          </a:xfrm>
          <a:prstGeom prst="wedgeEllipseCallout">
            <a:avLst>
              <a:gd name="adj1" fmla="val 30550"/>
              <a:gd name="adj2" fmla="val 8262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like $$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n th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bank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6162840" y="3973680"/>
            <a:ext cx="2981160" cy="2884320"/>
            <a:chOff x="6162840" y="3973680"/>
            <a:chExt cx="2981160" cy="2884320"/>
          </a:xfrm>
        </p:grpSpPr>
        <p:pic>
          <p:nvPicPr>
            <p:cNvPr id="455" name="" descr=""/>
            <p:cNvPicPr/>
            <p:nvPr/>
          </p:nvPicPr>
          <p:blipFill>
            <a:blip r:embed="rId2"/>
            <a:stretch/>
          </p:blipFill>
          <p:spPr>
            <a:xfrm>
              <a:off x="7010280" y="3973680"/>
              <a:ext cx="2133720" cy="17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" descr=""/>
            <p:cNvPicPr/>
            <p:nvPr/>
          </p:nvPicPr>
          <p:blipFill>
            <a:blip r:embed="rId3"/>
            <a:stretch/>
          </p:blipFill>
          <p:spPr>
            <a:xfrm>
              <a:off x="6162840" y="5187960"/>
              <a:ext cx="2023920" cy="1670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0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6929280" y="388800"/>
            <a:ext cx="2114280" cy="1855800"/>
            <a:chOff x="6929280" y="388800"/>
            <a:chExt cx="2114280" cy="1855800"/>
          </a:xfrm>
        </p:grpSpPr>
        <p:pic>
          <p:nvPicPr>
            <p:cNvPr id="458" name="" descr=""/>
            <p:cNvPicPr/>
            <p:nvPr/>
          </p:nvPicPr>
          <p:blipFill>
            <a:blip r:embed="rId1"/>
            <a:srcRect l="12378" t="3000" r="12378" b="6000"/>
            <a:stretch/>
          </p:blipFill>
          <p:spPr>
            <a:xfrm>
              <a:off x="6997320" y="388800"/>
              <a:ext cx="204624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6929280" y="1888200"/>
              <a:ext cx="272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460" name="" descr=""/>
          <p:cNvPicPr/>
          <p:nvPr/>
        </p:nvPicPr>
        <p:blipFill>
          <a:blip r:embed="rId2"/>
          <a:srcRect l="0" t="0" r="41629" b="0"/>
          <a:stretch/>
        </p:blipFill>
        <p:spPr>
          <a:xfrm rot="20335800">
            <a:off x="0" y="32364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61" name=""/>
          <p:cNvSpPr/>
          <p:nvPr/>
        </p:nvSpPr>
        <p:spPr>
          <a:xfrm flipH="1">
            <a:off x="2959920" y="739800"/>
            <a:ext cx="2801880" cy="1611360"/>
          </a:xfrm>
          <a:prstGeom prst="wedgeEllipseCallout">
            <a:avLst>
              <a:gd name="adj1" fmla="val 109939"/>
              <a:gd name="adj2" fmla="val 194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What’s the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point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7101000" y="4011480"/>
            <a:ext cx="2022480" cy="281484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 flipH="1">
            <a:off x="3483000" y="2652840"/>
            <a:ext cx="3943440" cy="2127240"/>
          </a:xfrm>
          <a:prstGeom prst="wedgeEllipseCallout">
            <a:avLst>
              <a:gd name="adj1" fmla="val -50648"/>
              <a:gd name="adj2" fmla="val 8738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is to make</a:t>
            </a:r>
            <a:br>
              <a:rPr sz="36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i="1" lang="en-US" sz="3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12760" y="3867120"/>
            <a:ext cx="4191120" cy="27432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00"/>
                            </p:stCondLst>
                            <p:childTnLst>
                              <p:par>
                                <p:cTn id="8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500"/>
                            </p:stCondLst>
                            <p:childTnLst>
                              <p:par>
                                <p:cTn id="8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3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326880" y="1300320"/>
            <a:ext cx="462240" cy="24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4791240" y="414360"/>
            <a:ext cx="4152600" cy="5738760"/>
            <a:chOff x="4791240" y="414360"/>
            <a:chExt cx="4152600" cy="5738760"/>
          </a:xfrm>
        </p:grpSpPr>
        <p:pic>
          <p:nvPicPr>
            <p:cNvPr id="467" name="" descr=""/>
            <p:cNvPicPr/>
            <p:nvPr/>
          </p:nvPicPr>
          <p:blipFill>
            <a:blip r:embed="rId1"/>
            <a:srcRect l="22500" t="4504" r="28129" b="4504"/>
            <a:stretch/>
          </p:blipFill>
          <p:spPr>
            <a:xfrm>
              <a:off x="4791240" y="414360"/>
              <a:ext cx="41526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7807680" y="56847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830840" y="4497480"/>
              <a:ext cx="360" cy="365040"/>
            </a:xfrm>
            <a:prstGeom prst="rect">
              <a:avLst/>
            </a:prstGeom>
            <a:solidFill>
              <a:srgbClr val="eac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366040" y="3871800"/>
              <a:ext cx="7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432640" y="305424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164640" y="11412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096760" y="122868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139600" y="6555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56720" y="122868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539480" y="11127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409160" y="7239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812280" y="71604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50320" y="4665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5300640" y="5041800"/>
            <a:ext cx="905040" cy="682560"/>
          </a:xfrm>
          <a:prstGeom prst="rect">
            <a:avLst/>
          </a:prstGeom>
          <a:solidFill>
            <a:srgbClr val="eec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88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d how do we do that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021280" y="5087880"/>
            <a:ext cx="1388880" cy="909720"/>
          </a:xfrm>
          <a:prstGeom prst="irregularSeal1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01600" y="6329520"/>
            <a:ext cx="4678200" cy="4057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ut…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Have we done that yet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334040" y="4292640"/>
            <a:ext cx="1022040" cy="514440"/>
          </a:xfrm>
          <a:custGeom>
            <a:avLst/>
            <a:gdLst>
              <a:gd name="textAreaLeft" fmla="*/ 233280 w 1022040"/>
              <a:gd name="textAreaRight" fmla="*/ 788760 w 1022040"/>
              <a:gd name="textAreaTop" fmla="*/ 117360 h 514440"/>
              <a:gd name="textAreaBottom" fmla="*/ 397080 h 514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6404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a18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959440" y="4622760"/>
            <a:ext cx="658800" cy="627120"/>
          </a:xfrm>
          <a:custGeom>
            <a:avLst/>
            <a:gdLst/>
            <a:ahLst/>
            <a:rect l="l" t="t" r="r" b="b"/>
            <a:pathLst>
              <a:path w="324" h="355">
                <a:moveTo>
                  <a:pt x="0" y="0"/>
                </a:moveTo>
                <a:cubicBezTo>
                  <a:pt x="142" y="25"/>
                  <a:pt x="284" y="50"/>
                  <a:pt x="304" y="109"/>
                </a:cubicBezTo>
                <a:cubicBezTo>
                  <a:pt x="324" y="168"/>
                  <a:pt x="223" y="261"/>
                  <a:pt x="123" y="355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5360760" y="4364640"/>
            <a:ext cx="671400" cy="459720"/>
            <a:chOff x="5360760" y="4364640"/>
            <a:chExt cx="671400" cy="459720"/>
          </a:xfrm>
        </p:grpSpPr>
        <p:sp>
          <p:nvSpPr>
            <p:cNvPr id="487" name=""/>
            <p:cNvSpPr/>
            <p:nvPr/>
          </p:nvSpPr>
          <p:spPr>
            <a:xfrm>
              <a:off x="5633640" y="4395960"/>
              <a:ext cx="398520" cy="3985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360760" y="43646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2400" y="1552680"/>
            <a:ext cx="57132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TP synthas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t up a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radien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llow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flow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hrough ATP synthas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owers bonding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f P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AD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AD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+ P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i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2"/>
          <a:stretch/>
        </p:blipFill>
        <p:spPr>
          <a:xfrm flipH="1" rot="2367600">
            <a:off x="7733880" y="4933800"/>
            <a:ext cx="136224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7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500"/>
                            </p:stCondLst>
                            <p:childTnLst>
                              <p:par>
                                <p:cTn id="8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 rot="19232400">
            <a:off x="848880" y="1971360"/>
            <a:ext cx="2646360" cy="368136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3381480" y="1114560"/>
            <a:ext cx="5403600" cy="2789280"/>
          </a:xfrm>
          <a:prstGeom prst="wedgeEllipseCallout">
            <a:avLst>
              <a:gd name="adj1" fmla="val -70592"/>
              <a:gd name="adj2" fmla="val 7174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2880" bIns="1828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NO</a:t>
            </a:r>
            <a:r>
              <a:rPr b="1" i="1" lang="en-US" sz="32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The final chapter to my story is next</a:t>
            </a:r>
            <a:r>
              <a:rPr b="1" i="1" lang="en-US" sz="32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Any Questions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0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2388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60440" indent="0">
              <a:buNone/>
              <a:tabLst>
                <a:tab algn="l" pos="0"/>
                <a:tab algn="l" pos="1368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ellular Respiration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Arial"/>
              </a:rPr>
              <a:t>Stage 2 &amp; 3: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xidation of Pyruvate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Krebs Cycl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858000" y="533520"/>
            <a:ext cx="2081160" cy="2895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rcRect l="0" t="0" r="0" b="347576"/>
          <a:stretch/>
        </p:blipFill>
        <p:spPr>
          <a:xfrm rot="5400000">
            <a:off x="6387840" y="4178160"/>
            <a:ext cx="220356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1676520" y="5494320"/>
            <a:ext cx="6019560" cy="1143000"/>
            <a:chOff x="1676520" y="5494320"/>
            <a:chExt cx="6019560" cy="1143000"/>
          </a:xfrm>
        </p:grpSpPr>
        <p:sp>
          <p:nvSpPr>
            <p:cNvPr id="151" name=""/>
            <p:cNvSpPr/>
            <p:nvPr/>
          </p:nvSpPr>
          <p:spPr>
            <a:xfrm>
              <a:off x="1676520" y="5494320"/>
              <a:ext cx="6019560" cy="114300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54600" y="5530320"/>
              <a:ext cx="50551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yruvate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CO</a:t>
              </a:r>
              <a:r>
                <a:rPr b="1" lang="en-US" sz="30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lycolysis is only the star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lycolysi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4" marL="1753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yruvate has more energy to yield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3 more C to strip off (to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oxidize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if O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is available, pyruvate enters mitochondria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nzymes of Krebs cycle complete the full oxidation of sugar to CO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676520" y="1905120"/>
            <a:ext cx="6019560" cy="1143000"/>
            <a:chOff x="1676520" y="1905120"/>
            <a:chExt cx="6019560" cy="1143000"/>
          </a:xfrm>
        </p:grpSpPr>
        <p:sp>
          <p:nvSpPr>
            <p:cNvPr id="156" name=""/>
            <p:cNvSpPr/>
            <p:nvPr/>
          </p:nvSpPr>
          <p:spPr>
            <a:xfrm>
              <a:off x="1676520" y="1905120"/>
              <a:ext cx="6019560" cy="114300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1992960" y="1972440"/>
              <a:ext cx="5385960" cy="1007280"/>
              <a:chOff x="1992960" y="1972440"/>
              <a:chExt cx="5385960" cy="1007280"/>
            </a:xfrm>
          </p:grpSpPr>
          <p:sp>
            <p:nvSpPr>
              <p:cNvPr id="158" name=""/>
              <p:cNvSpPr/>
              <p:nvPr/>
            </p:nvSpPr>
            <p:spPr>
              <a:xfrm>
                <a:off x="6103440" y="2471400"/>
                <a:ext cx="506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660066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660066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292120" y="2452680"/>
                <a:ext cx="609480" cy="527040"/>
              </a:xfrm>
              <a:prstGeom prst="hexagon">
                <a:avLst>
                  <a:gd name="adj" fmla="val 28911"/>
                  <a:gd name="vf" fmla="val 115470"/>
                </a:avLst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6C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559200" y="2452680"/>
                <a:ext cx="609840" cy="527040"/>
              </a:xfrm>
              <a:prstGeom prst="hexagon">
                <a:avLst>
                  <a:gd name="adj" fmla="val 28928"/>
                  <a:gd name="vf" fmla="val 115470"/>
                </a:avLst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3C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992960" y="1972440"/>
                <a:ext cx="53859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glucose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 pyruvate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292480" y="604188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cc18"/>
          </a:solidFill>
          <a:ln w="93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3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05720" y="6041880"/>
            <a:ext cx="609480" cy="527040"/>
          </a:xfrm>
          <a:prstGeom prst="ellipse">
            <a:avLst/>
          </a:prstGeom>
          <a:solidFill>
            <a:srgbClr val="6f89f7"/>
          </a:solidFill>
          <a:ln w="936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1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ellular respir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902" b="4857"/>
          <a:stretch/>
        </p:blipFill>
        <p:spPr>
          <a:xfrm>
            <a:off x="1066680" y="1371600"/>
            <a:ext cx="6870960" cy="4889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2331720" y="4218120"/>
            <a:ext cx="6704280" cy="2656800"/>
            <a:chOff x="2331720" y="4218120"/>
            <a:chExt cx="6704280" cy="265680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rcRect l="29251" t="15000" r="0" b="21000"/>
            <a:stretch/>
          </p:blipFill>
          <p:spPr>
            <a:xfrm>
              <a:off x="5267520" y="4218120"/>
              <a:ext cx="3768480" cy="25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5135040" y="4597560"/>
              <a:ext cx="128844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membran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ac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87320" y="4705560"/>
              <a:ext cx="95184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mbrane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20720" y="4457880"/>
              <a:ext cx="95184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mbrane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15000" y="5234040"/>
              <a:ext cx="53712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87960" y="4978440"/>
              <a:ext cx="57672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rista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8011800" y="4792680"/>
              <a:ext cx="12708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91240" y="5010120"/>
              <a:ext cx="358920" cy="71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7531200" y="5052960"/>
              <a:ext cx="0" cy="52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373800" y="5159520"/>
              <a:ext cx="1800" cy="71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81760" y="5400720"/>
              <a:ext cx="0" cy="53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27440" y="6327720"/>
              <a:ext cx="50796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2"/>
            <a:srcRect l="0" t="0" r="41629" b="0"/>
            <a:stretch/>
          </p:blipFill>
          <p:spPr>
            <a:xfrm rot="20335800">
              <a:off x="2614680" y="4836960"/>
              <a:ext cx="1434960" cy="18414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180" name=""/>
            <p:cNvSpPr/>
            <p:nvPr/>
          </p:nvSpPr>
          <p:spPr>
            <a:xfrm>
              <a:off x="3691080" y="5840640"/>
              <a:ext cx="1571400" cy="334800"/>
            </a:xfrm>
            <a:custGeom>
              <a:avLst/>
              <a:gdLst/>
              <a:ahLst/>
              <a:rect l="l" t="t" r="r" b="b"/>
              <a:pathLst>
                <a:path w="1015" h="226">
                  <a:moveTo>
                    <a:pt x="0" y="226"/>
                  </a:moveTo>
                  <a:cubicBezTo>
                    <a:pt x="153" y="139"/>
                    <a:pt x="306" y="52"/>
                    <a:pt x="475" y="26"/>
                  </a:cubicBezTo>
                  <a:cubicBezTo>
                    <a:pt x="644" y="0"/>
                    <a:pt x="829" y="35"/>
                    <a:pt x="1015" y="71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itochondria — Structur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529240" y="5629320"/>
            <a:ext cx="2286000" cy="650880"/>
            <a:chOff x="5529240" y="5629320"/>
            <a:chExt cx="2286000" cy="650880"/>
          </a:xfrm>
        </p:grpSpPr>
        <p:sp>
          <p:nvSpPr>
            <p:cNvPr id="183" name=""/>
            <p:cNvSpPr/>
            <p:nvPr/>
          </p:nvSpPr>
          <p:spPr>
            <a:xfrm>
              <a:off x="6084720" y="6232680"/>
              <a:ext cx="4788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64280" y="601848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23040" y="583560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513480" y="584352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97640" y="596268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83480" y="62247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23080" y="600228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3880" y="62247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203960" y="616104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23120" y="57009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01040" y="569304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711920" y="5931000"/>
              <a:ext cx="4788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767720" y="56293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846760" y="61056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54680" y="582768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00520" y="5891400"/>
              <a:ext cx="4788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529240" y="600228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6400" y="1260360"/>
            <a:ext cx="8002800" cy="38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Double membrane energy harvesting organelle</a:t>
            </a: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mooth outer membrane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highly folded inner membrane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ristae</a:t>
            </a:r>
            <a:endParaRPr b="1" lang="en-US" sz="18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intermembrane space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fluid-filled space between membranes</a:t>
            </a:r>
            <a:endParaRPr b="1" lang="en-US" sz="18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matrix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inner fluid-filled space</a:t>
            </a:r>
            <a:endParaRPr b="1" lang="en-US" sz="18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DNA, ribosomes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enzymes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free in matrix &amp; membrane-bound </a:t>
            </a:r>
            <a:endParaRPr b="1" lang="en-US" sz="18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7218360" y="5788080"/>
            <a:ext cx="1927800" cy="1070640"/>
            <a:chOff x="7218360" y="5788080"/>
            <a:chExt cx="1927800" cy="1070640"/>
          </a:xfrm>
        </p:grpSpPr>
        <p:sp>
          <p:nvSpPr>
            <p:cNvPr id="202" name=""/>
            <p:cNvSpPr/>
            <p:nvPr/>
          </p:nvSpPr>
          <p:spPr>
            <a:xfrm>
              <a:off x="7218360" y="5788080"/>
              <a:ext cx="179280" cy="397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31" y="0"/>
                  </a:moveTo>
                  <a:cubicBezTo>
                    <a:pt x="27" y="5"/>
                    <a:pt x="25" y="10"/>
                    <a:pt x="21" y="15"/>
                  </a:cubicBezTo>
                  <a:cubicBezTo>
                    <a:pt x="16" y="19"/>
                    <a:pt x="7" y="19"/>
                    <a:pt x="6" y="25"/>
                  </a:cubicBezTo>
                  <a:cubicBezTo>
                    <a:pt x="0" y="42"/>
                    <a:pt x="31" y="75"/>
                    <a:pt x="31" y="75"/>
                  </a:cubicBezTo>
                  <a:cubicBezTo>
                    <a:pt x="35" y="94"/>
                    <a:pt x="31" y="96"/>
                    <a:pt x="51" y="105"/>
                  </a:cubicBezTo>
                  <a:cubicBezTo>
                    <a:pt x="60" y="109"/>
                    <a:pt x="81" y="115"/>
                    <a:pt x="81" y="115"/>
                  </a:cubicBezTo>
                  <a:cubicBezTo>
                    <a:pt x="113" y="104"/>
                    <a:pt x="94" y="85"/>
                    <a:pt x="81" y="65"/>
                  </a:cubicBezTo>
                  <a:cubicBezTo>
                    <a:pt x="74" y="6"/>
                    <a:pt x="78" y="15"/>
                    <a:pt x="31" y="0"/>
                  </a:cubicBez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7387920" y="6203880"/>
              <a:ext cx="555480" cy="39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967520" y="6496200"/>
              <a:ext cx="117864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tochondria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205" name="" descr=""/>
          <p:cNvPicPr/>
          <p:nvPr/>
        </p:nvPicPr>
        <p:blipFill>
          <a:blip r:embed="rId3"/>
          <a:srcRect l="6750" t="24000" r="2250" b="24000"/>
          <a:stretch/>
        </p:blipFill>
        <p:spPr>
          <a:xfrm>
            <a:off x="5708520" y="1657440"/>
            <a:ext cx="3259440" cy="1395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127080" y="5121360"/>
            <a:ext cx="2343240" cy="1646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07" name=""/>
          <p:cNvSpPr/>
          <p:nvPr/>
        </p:nvSpPr>
        <p:spPr>
          <a:xfrm>
            <a:off x="304920" y="6238800"/>
            <a:ext cx="2384280" cy="58860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What cells would have a lot of mitochondria?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itochondria – Func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260819"/>
          <a:stretch/>
        </p:blipFill>
        <p:spPr>
          <a:xfrm>
            <a:off x="119160" y="2263680"/>
            <a:ext cx="4246560" cy="304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0" name=""/>
          <p:cNvSpPr/>
          <p:nvPr/>
        </p:nvSpPr>
        <p:spPr>
          <a:xfrm>
            <a:off x="119160" y="5411880"/>
            <a:ext cx="4265640" cy="123336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at does this tell us about the evolution of eukaryotes?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Endosymbiosis</a:t>
            </a:r>
            <a:r>
              <a:rPr b="1" i="1" lang="en-US" sz="22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9160" y="1320120"/>
            <a:ext cx="4238640" cy="8557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Dividing mitochondria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ho else divides like that?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67240" y="5396040"/>
            <a:ext cx="4643280" cy="143460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vantage of highly folded inner membrane?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More surface area for membrane-bound enzymes &amp; permease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427640" y="2133720"/>
            <a:ext cx="4668480" cy="3173040"/>
            <a:chOff x="4427640" y="2133720"/>
            <a:chExt cx="4668480" cy="3173040"/>
          </a:xfrm>
        </p:grpSpPr>
        <p:pic>
          <p:nvPicPr>
            <p:cNvPr id="214" name="" descr=""/>
            <p:cNvPicPr/>
            <p:nvPr/>
          </p:nvPicPr>
          <p:blipFill>
            <a:blip r:embed="rId2"/>
            <a:srcRect l="476280" t="0" r="0" b="382707"/>
            <a:stretch/>
          </p:blipFill>
          <p:spPr>
            <a:xfrm>
              <a:off x="4459320" y="2133720"/>
              <a:ext cx="4636800" cy="31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4461120" y="2779560"/>
              <a:ext cx="719280" cy="451800"/>
            </a:xfrm>
            <a:prstGeom prst="rect">
              <a:avLst/>
            </a:prstGeom>
            <a:solidFill>
              <a:srgbClr val="ff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427640" y="2177280"/>
              <a:ext cx="987120" cy="60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4443480" y="1320120"/>
            <a:ext cx="4643280" cy="8557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Membrane-bound proteins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zymes &amp; permeases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7869240" y="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130800" y="166680"/>
            <a:ext cx="1735200" cy="1073160"/>
          </a:xfrm>
          <a:prstGeom prst="wedgeEllipseCallout">
            <a:avLst>
              <a:gd name="adj1" fmla="val 69851"/>
              <a:gd name="adj2" fmla="val -31509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Oooooh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orm fits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unction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1600" y="2341440"/>
            <a:ext cx="1503360" cy="42228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bacteria</a:t>
            </a:r>
            <a:r>
              <a:rPr b="1" i="1" lang="en-US" sz="25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685800" y="1944720"/>
            <a:ext cx="7696080" cy="1905120"/>
            <a:chOff x="685800" y="1944720"/>
            <a:chExt cx="7696080" cy="1905120"/>
          </a:xfrm>
        </p:grpSpPr>
        <p:sp>
          <p:nvSpPr>
            <p:cNvPr id="222" name=""/>
            <p:cNvSpPr/>
            <p:nvPr/>
          </p:nvSpPr>
          <p:spPr>
            <a:xfrm>
              <a:off x="685800" y="1944720"/>
              <a:ext cx="7696080" cy="190512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04160" y="2295720"/>
              <a:ext cx="6278400" cy="6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yruvate </a:t>
              </a:r>
              <a:r>
                <a:rPr b="1" lang="en-US" sz="32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acetyl CoA + CO</a:t>
              </a:r>
              <a:r>
                <a:rPr b="1" lang="en-US" sz="30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xidation of pyruvat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882160" y="2858760"/>
            <a:ext cx="1537560" cy="961920"/>
            <a:chOff x="2882160" y="2858760"/>
            <a:chExt cx="1537560" cy="961920"/>
          </a:xfrm>
        </p:grpSpPr>
        <p:sp>
          <p:nvSpPr>
            <p:cNvPr id="226" name=""/>
            <p:cNvSpPr/>
            <p:nvPr/>
          </p:nvSpPr>
          <p:spPr>
            <a:xfrm flipV="1">
              <a:off x="3505320" y="2858400"/>
              <a:ext cx="914400" cy="60948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82160" y="3391560"/>
              <a:ext cx="784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d1666"/>
                  </a:solidFill>
                  <a:latin typeface="Arial"/>
                </a:rPr>
                <a:t>NAD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1905120" y="286236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3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562720" y="286236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2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238880" y="2859120"/>
            <a:ext cx="533520" cy="533520"/>
          </a:xfrm>
          <a:prstGeom prst="ellipse">
            <a:avLst/>
          </a:prstGeom>
          <a:solidFill>
            <a:srgbClr val="6f89f7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1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763200" y="1675440"/>
            <a:ext cx="7738200" cy="1877040"/>
            <a:chOff x="763200" y="1675440"/>
            <a:chExt cx="7738200" cy="1877040"/>
          </a:xfrm>
        </p:grpSpPr>
        <p:sp>
          <p:nvSpPr>
            <p:cNvPr id="232" name=""/>
            <p:cNvSpPr/>
            <p:nvPr/>
          </p:nvSpPr>
          <p:spPr>
            <a:xfrm>
              <a:off x="1049760" y="1675440"/>
              <a:ext cx="66996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40458c"/>
                  </a:solidFill>
                  <a:latin typeface="25 Helvetica UltraLight"/>
                </a:rPr>
                <a:t>[</a:t>
              </a:r>
              <a:endParaRPr b="0" lang="en-US" sz="1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3200" y="235512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831440" y="1675440"/>
              <a:ext cx="66996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40458c"/>
                  </a:solidFill>
                  <a:latin typeface="25 Helvetica UltraLight"/>
                </a:rPr>
                <a:t>]</a:t>
              </a:r>
              <a:endParaRPr b="0" lang="en-US" sz="1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3440160" y="-223920"/>
            <a:ext cx="7858080" cy="7513560"/>
            <a:chOff x="3440160" y="-223920"/>
            <a:chExt cx="7858080" cy="7513560"/>
          </a:xfrm>
        </p:grpSpPr>
        <p:sp>
          <p:nvSpPr>
            <p:cNvPr id="236" name=""/>
            <p:cNvSpPr/>
            <p:nvPr/>
          </p:nvSpPr>
          <p:spPr>
            <a:xfrm>
              <a:off x="3440160" y="-223920"/>
              <a:ext cx="7858080" cy="7513560"/>
            </a:xfrm>
            <a:prstGeom prst="ellipse">
              <a:avLst/>
            </a:prstGeom>
            <a:noFill/>
            <a:ln w="152280">
              <a:solidFill>
                <a:srgbClr val="993300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368960" y="104760"/>
              <a:ext cx="5941800" cy="6807240"/>
            </a:xfrm>
            <a:custGeom>
              <a:avLst/>
              <a:gdLst/>
              <a:ahLst/>
              <a:rect l="l" t="t" r="r" b="b"/>
              <a:pathLst>
                <a:path w="3743" h="4288">
                  <a:moveTo>
                    <a:pt x="3322" y="423"/>
                  </a:moveTo>
                  <a:cubicBezTo>
                    <a:pt x="3295" y="532"/>
                    <a:pt x="3268" y="653"/>
                    <a:pt x="3221" y="757"/>
                  </a:cubicBezTo>
                  <a:cubicBezTo>
                    <a:pt x="3174" y="861"/>
                    <a:pt x="3120" y="987"/>
                    <a:pt x="3042" y="1045"/>
                  </a:cubicBezTo>
                  <a:cubicBezTo>
                    <a:pt x="2964" y="1103"/>
                    <a:pt x="2811" y="1147"/>
                    <a:pt x="2755" y="1107"/>
                  </a:cubicBezTo>
                  <a:cubicBezTo>
                    <a:pt x="2699" y="1067"/>
                    <a:pt x="2672" y="892"/>
                    <a:pt x="2708" y="804"/>
                  </a:cubicBezTo>
                  <a:cubicBezTo>
                    <a:pt x="2744" y="716"/>
                    <a:pt x="2918" y="657"/>
                    <a:pt x="2972" y="579"/>
                  </a:cubicBezTo>
                  <a:cubicBezTo>
                    <a:pt x="3026" y="501"/>
                    <a:pt x="3043" y="402"/>
                    <a:pt x="3034" y="338"/>
                  </a:cubicBezTo>
                  <a:cubicBezTo>
                    <a:pt x="3025" y="274"/>
                    <a:pt x="2980" y="229"/>
                    <a:pt x="2918" y="198"/>
                  </a:cubicBezTo>
                  <a:cubicBezTo>
                    <a:pt x="2856" y="167"/>
                    <a:pt x="2744" y="134"/>
                    <a:pt x="2661" y="151"/>
                  </a:cubicBezTo>
                  <a:cubicBezTo>
                    <a:pt x="2578" y="168"/>
                    <a:pt x="2455" y="208"/>
                    <a:pt x="2421" y="299"/>
                  </a:cubicBezTo>
                  <a:cubicBezTo>
                    <a:pt x="2387" y="390"/>
                    <a:pt x="2494" y="598"/>
                    <a:pt x="2459" y="695"/>
                  </a:cubicBezTo>
                  <a:cubicBezTo>
                    <a:pt x="2424" y="792"/>
                    <a:pt x="2292" y="882"/>
                    <a:pt x="2211" y="881"/>
                  </a:cubicBezTo>
                  <a:cubicBezTo>
                    <a:pt x="2130" y="880"/>
                    <a:pt x="2000" y="764"/>
                    <a:pt x="1970" y="687"/>
                  </a:cubicBezTo>
                  <a:cubicBezTo>
                    <a:pt x="1940" y="610"/>
                    <a:pt x="2005" y="492"/>
                    <a:pt x="2032" y="416"/>
                  </a:cubicBezTo>
                  <a:cubicBezTo>
                    <a:pt x="2059" y="340"/>
                    <a:pt x="2123" y="287"/>
                    <a:pt x="2133" y="229"/>
                  </a:cubicBezTo>
                  <a:cubicBezTo>
                    <a:pt x="2143" y="171"/>
                    <a:pt x="2144" y="101"/>
                    <a:pt x="2094" y="66"/>
                  </a:cubicBezTo>
                  <a:cubicBezTo>
                    <a:pt x="2044" y="31"/>
                    <a:pt x="1926" y="23"/>
                    <a:pt x="1830" y="19"/>
                  </a:cubicBezTo>
                  <a:cubicBezTo>
                    <a:pt x="1734" y="15"/>
                    <a:pt x="1608" y="0"/>
                    <a:pt x="1520" y="43"/>
                  </a:cubicBezTo>
                  <a:cubicBezTo>
                    <a:pt x="1432" y="86"/>
                    <a:pt x="1323" y="179"/>
                    <a:pt x="1302" y="276"/>
                  </a:cubicBezTo>
                  <a:cubicBezTo>
                    <a:pt x="1281" y="373"/>
                    <a:pt x="1329" y="533"/>
                    <a:pt x="1395" y="625"/>
                  </a:cubicBezTo>
                  <a:cubicBezTo>
                    <a:pt x="1461" y="717"/>
                    <a:pt x="1654" y="743"/>
                    <a:pt x="1698" y="827"/>
                  </a:cubicBezTo>
                  <a:cubicBezTo>
                    <a:pt x="1742" y="911"/>
                    <a:pt x="1721" y="1058"/>
                    <a:pt x="1660" y="1130"/>
                  </a:cubicBezTo>
                  <a:cubicBezTo>
                    <a:pt x="1599" y="1202"/>
                    <a:pt x="1439" y="1262"/>
                    <a:pt x="1333" y="1262"/>
                  </a:cubicBezTo>
                  <a:cubicBezTo>
                    <a:pt x="1227" y="1262"/>
                    <a:pt x="1106" y="1221"/>
                    <a:pt x="1023" y="1130"/>
                  </a:cubicBezTo>
                  <a:cubicBezTo>
                    <a:pt x="940" y="1039"/>
                    <a:pt x="934" y="788"/>
                    <a:pt x="836" y="718"/>
                  </a:cubicBezTo>
                  <a:cubicBezTo>
                    <a:pt x="738" y="648"/>
                    <a:pt x="550" y="653"/>
                    <a:pt x="432" y="711"/>
                  </a:cubicBezTo>
                  <a:cubicBezTo>
                    <a:pt x="314" y="769"/>
                    <a:pt x="190" y="943"/>
                    <a:pt x="129" y="1068"/>
                  </a:cubicBezTo>
                  <a:cubicBezTo>
                    <a:pt x="68" y="1193"/>
                    <a:pt x="33" y="1320"/>
                    <a:pt x="67" y="1464"/>
                  </a:cubicBezTo>
                  <a:cubicBezTo>
                    <a:pt x="101" y="1608"/>
                    <a:pt x="196" y="1811"/>
                    <a:pt x="331" y="1930"/>
                  </a:cubicBezTo>
                  <a:cubicBezTo>
                    <a:pt x="466" y="2049"/>
                    <a:pt x="700" y="2154"/>
                    <a:pt x="875" y="2178"/>
                  </a:cubicBezTo>
                  <a:cubicBezTo>
                    <a:pt x="1050" y="2202"/>
                    <a:pt x="1249" y="2068"/>
                    <a:pt x="1380" y="2077"/>
                  </a:cubicBezTo>
                  <a:cubicBezTo>
                    <a:pt x="1511" y="2086"/>
                    <a:pt x="1619" y="2162"/>
                    <a:pt x="1660" y="2233"/>
                  </a:cubicBezTo>
                  <a:cubicBezTo>
                    <a:pt x="1701" y="2304"/>
                    <a:pt x="1702" y="2440"/>
                    <a:pt x="1628" y="2505"/>
                  </a:cubicBezTo>
                  <a:cubicBezTo>
                    <a:pt x="1554" y="2570"/>
                    <a:pt x="1395" y="2625"/>
                    <a:pt x="1217" y="2621"/>
                  </a:cubicBezTo>
                  <a:cubicBezTo>
                    <a:pt x="1039" y="2617"/>
                    <a:pt x="727" y="2511"/>
                    <a:pt x="557" y="2481"/>
                  </a:cubicBezTo>
                  <a:cubicBezTo>
                    <a:pt x="387" y="2451"/>
                    <a:pt x="288" y="2408"/>
                    <a:pt x="199" y="2443"/>
                  </a:cubicBezTo>
                  <a:cubicBezTo>
                    <a:pt x="110" y="2478"/>
                    <a:pt x="40" y="2599"/>
                    <a:pt x="21" y="2691"/>
                  </a:cubicBezTo>
                  <a:cubicBezTo>
                    <a:pt x="2" y="2783"/>
                    <a:pt x="0" y="2911"/>
                    <a:pt x="83" y="2994"/>
                  </a:cubicBezTo>
                  <a:cubicBezTo>
                    <a:pt x="166" y="3077"/>
                    <a:pt x="306" y="3191"/>
                    <a:pt x="518" y="3188"/>
                  </a:cubicBezTo>
                  <a:cubicBezTo>
                    <a:pt x="730" y="3185"/>
                    <a:pt x="1184" y="3041"/>
                    <a:pt x="1357" y="2978"/>
                  </a:cubicBezTo>
                  <a:cubicBezTo>
                    <a:pt x="1530" y="2915"/>
                    <a:pt x="1483" y="2854"/>
                    <a:pt x="1559" y="2808"/>
                  </a:cubicBezTo>
                  <a:cubicBezTo>
                    <a:pt x="1635" y="2762"/>
                    <a:pt x="1735" y="2712"/>
                    <a:pt x="1815" y="2699"/>
                  </a:cubicBezTo>
                  <a:cubicBezTo>
                    <a:pt x="1895" y="2686"/>
                    <a:pt x="1983" y="2689"/>
                    <a:pt x="2040" y="2730"/>
                  </a:cubicBezTo>
                  <a:cubicBezTo>
                    <a:pt x="2097" y="2771"/>
                    <a:pt x="2149" y="2872"/>
                    <a:pt x="2157" y="2947"/>
                  </a:cubicBezTo>
                  <a:cubicBezTo>
                    <a:pt x="2165" y="3022"/>
                    <a:pt x="2167" y="3115"/>
                    <a:pt x="2087" y="3180"/>
                  </a:cubicBezTo>
                  <a:cubicBezTo>
                    <a:pt x="2007" y="3245"/>
                    <a:pt x="1812" y="3306"/>
                    <a:pt x="1675" y="3336"/>
                  </a:cubicBezTo>
                  <a:cubicBezTo>
                    <a:pt x="1538" y="3366"/>
                    <a:pt x="1370" y="3302"/>
                    <a:pt x="1263" y="3359"/>
                  </a:cubicBezTo>
                  <a:cubicBezTo>
                    <a:pt x="1156" y="3416"/>
                    <a:pt x="1058" y="3567"/>
                    <a:pt x="1030" y="3677"/>
                  </a:cubicBezTo>
                  <a:cubicBezTo>
                    <a:pt x="1002" y="3787"/>
                    <a:pt x="1051" y="3931"/>
                    <a:pt x="1093" y="4019"/>
                  </a:cubicBezTo>
                  <a:cubicBezTo>
                    <a:pt x="1135" y="4107"/>
                    <a:pt x="1181" y="4162"/>
                    <a:pt x="1279" y="4205"/>
                  </a:cubicBezTo>
                  <a:cubicBezTo>
                    <a:pt x="1377" y="4248"/>
                    <a:pt x="1537" y="4288"/>
                    <a:pt x="1683" y="4275"/>
                  </a:cubicBezTo>
                  <a:cubicBezTo>
                    <a:pt x="1829" y="4262"/>
                    <a:pt x="2041" y="4251"/>
                    <a:pt x="2157" y="4128"/>
                  </a:cubicBezTo>
                  <a:cubicBezTo>
                    <a:pt x="2273" y="4005"/>
                    <a:pt x="2333" y="3709"/>
                    <a:pt x="2382" y="3538"/>
                  </a:cubicBezTo>
                  <a:cubicBezTo>
                    <a:pt x="2431" y="3367"/>
                    <a:pt x="2393" y="3199"/>
                    <a:pt x="2452" y="3103"/>
                  </a:cubicBezTo>
                  <a:cubicBezTo>
                    <a:pt x="2511" y="3007"/>
                    <a:pt x="2650" y="2964"/>
                    <a:pt x="2739" y="2963"/>
                  </a:cubicBezTo>
                  <a:cubicBezTo>
                    <a:pt x="2828" y="2962"/>
                    <a:pt x="2949" y="3014"/>
                    <a:pt x="2988" y="3095"/>
                  </a:cubicBezTo>
                  <a:cubicBezTo>
                    <a:pt x="3027" y="3176"/>
                    <a:pt x="2986" y="3336"/>
                    <a:pt x="2972" y="3452"/>
                  </a:cubicBezTo>
                  <a:cubicBezTo>
                    <a:pt x="2958" y="3568"/>
                    <a:pt x="2906" y="3688"/>
                    <a:pt x="2902" y="3794"/>
                  </a:cubicBezTo>
                  <a:cubicBezTo>
                    <a:pt x="2898" y="3900"/>
                    <a:pt x="2860" y="4023"/>
                    <a:pt x="2949" y="4089"/>
                  </a:cubicBezTo>
                  <a:cubicBezTo>
                    <a:pt x="3038" y="4155"/>
                    <a:pt x="3312" y="4244"/>
                    <a:pt x="3438" y="4190"/>
                  </a:cubicBezTo>
                  <a:cubicBezTo>
                    <a:pt x="3564" y="4136"/>
                    <a:pt x="3685" y="4011"/>
                    <a:pt x="3702" y="3763"/>
                  </a:cubicBezTo>
                  <a:cubicBezTo>
                    <a:pt x="3719" y="3515"/>
                    <a:pt x="3597" y="2995"/>
                    <a:pt x="3539" y="2699"/>
                  </a:cubicBezTo>
                  <a:cubicBezTo>
                    <a:pt x="3481" y="2403"/>
                    <a:pt x="3330" y="2273"/>
                    <a:pt x="3353" y="1984"/>
                  </a:cubicBezTo>
                  <a:cubicBezTo>
                    <a:pt x="3376" y="1695"/>
                    <a:pt x="3622" y="1270"/>
                    <a:pt x="3679" y="967"/>
                  </a:cubicBezTo>
                  <a:cubicBezTo>
                    <a:pt x="3736" y="664"/>
                    <a:pt x="3743" y="311"/>
                    <a:pt x="3694" y="167"/>
                  </a:cubicBezTo>
                  <a:cubicBezTo>
                    <a:pt x="3645" y="23"/>
                    <a:pt x="3449" y="66"/>
                    <a:pt x="3384" y="105"/>
                  </a:cubicBezTo>
                  <a:cubicBezTo>
                    <a:pt x="3319" y="144"/>
                    <a:pt x="3349" y="314"/>
                    <a:pt x="3322" y="423"/>
                  </a:cubicBezTo>
                  <a:close/>
                </a:path>
              </a:pathLst>
            </a:custGeom>
            <a:noFill/>
            <a:ln w="177840">
              <a:solidFill>
                <a:srgbClr val="993300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0" y="3830760"/>
            <a:ext cx="9144000" cy="30272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7869240" y="5257800"/>
            <a:ext cx="1274760" cy="12952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254480" y="3094200"/>
            <a:ext cx="1052640" cy="8683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 enters mitochondrial matrix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17715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3" marL="1428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3 step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oxidation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process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releases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 CO</a:t>
            </a:r>
            <a:r>
              <a:rPr b="1" lang="en-US" sz="26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660066"/>
                </a:solidFill>
                <a:latin typeface="Comic Sans MS"/>
              </a:rPr>
              <a:t>(count the carbons!)</a:t>
            </a:r>
            <a:endParaRPr b="1" lang="en-US" sz="22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reduces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NAD </a:t>
            </a:r>
            <a:r>
              <a:rPr b="1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 2 NADH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(moves e</a:t>
            </a:r>
            <a:r>
              <a:rPr b="1" lang="en-US" sz="26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produces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acetyl CoA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cetyl CoA enters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Krebs cyc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988320" y="3665520"/>
            <a:ext cx="1682640" cy="1303200"/>
          </a:xfrm>
          <a:prstGeom prst="wedgeEllipseCallout">
            <a:avLst>
              <a:gd name="adj1" fmla="val 17546"/>
              <a:gd name="adj2" fmla="val 8203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her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does th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CO</a:t>
            </a:r>
            <a:r>
              <a:rPr b="1" lang="en-US" sz="1800" spc="-1" strike="noStrike" baseline="-25000">
                <a:solidFill>
                  <a:srgbClr val="0f116a"/>
                </a:solidFill>
                <a:latin typeface="Comic Sans MS"/>
                <a:ea typeface="Geneva"/>
              </a:rPr>
              <a:t>2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go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  <a:ea typeface="Geneva"/>
              </a:rPr>
              <a:t>Exhale</a:t>
            </a:r>
            <a:r>
              <a:rPr b="1" i="1" lang="en-US" sz="1800" spc="-1" strike="noStrike">
                <a:solidFill>
                  <a:srgbClr val="cc0000"/>
                </a:solidFill>
                <a:latin typeface="Comic Sans MS"/>
                <a:ea typeface="Geneva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08960" y="569880"/>
            <a:ext cx="1272960" cy="1857240"/>
          </a:xfrm>
          <a:custGeom>
            <a:avLst/>
            <a:gdLst/>
            <a:ahLst/>
            <a:rect l="l" t="t" r="r" b="b"/>
            <a:pathLst>
              <a:path w="802" h="1170">
                <a:moveTo>
                  <a:pt x="98" y="1170"/>
                </a:moveTo>
                <a:cubicBezTo>
                  <a:pt x="141" y="1124"/>
                  <a:pt x="184" y="1079"/>
                  <a:pt x="174" y="1018"/>
                </a:cubicBezTo>
                <a:cubicBezTo>
                  <a:pt x="164" y="957"/>
                  <a:pt x="0" y="851"/>
                  <a:pt x="37" y="805"/>
                </a:cubicBezTo>
                <a:cubicBezTo>
                  <a:pt x="74" y="759"/>
                  <a:pt x="319" y="766"/>
                  <a:pt x="397" y="740"/>
                </a:cubicBezTo>
                <a:cubicBezTo>
                  <a:pt x="475" y="714"/>
                  <a:pt x="508" y="690"/>
                  <a:pt x="508" y="649"/>
                </a:cubicBezTo>
                <a:cubicBezTo>
                  <a:pt x="508" y="608"/>
                  <a:pt x="393" y="531"/>
                  <a:pt x="397" y="492"/>
                </a:cubicBezTo>
                <a:cubicBezTo>
                  <a:pt x="401" y="453"/>
                  <a:pt x="489" y="447"/>
                  <a:pt x="533" y="416"/>
                </a:cubicBezTo>
                <a:cubicBezTo>
                  <a:pt x="577" y="385"/>
                  <a:pt x="635" y="346"/>
                  <a:pt x="660" y="304"/>
                </a:cubicBezTo>
                <a:cubicBezTo>
                  <a:pt x="685" y="262"/>
                  <a:pt x="669" y="198"/>
                  <a:pt x="685" y="162"/>
                </a:cubicBezTo>
                <a:cubicBezTo>
                  <a:pt x="701" y="126"/>
                  <a:pt x="737" y="114"/>
                  <a:pt x="756" y="87"/>
                </a:cubicBezTo>
                <a:cubicBezTo>
                  <a:pt x="775" y="60"/>
                  <a:pt x="788" y="30"/>
                  <a:pt x="802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30040" y="6350040"/>
            <a:ext cx="127008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yruvate oxidized to Acetyl CoA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46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902" t="2386" r="1351" b="6040"/>
          <a:stretch/>
        </p:blipFill>
        <p:spPr>
          <a:xfrm>
            <a:off x="907920" y="1452600"/>
            <a:ext cx="7597800" cy="4033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47" name=""/>
          <p:cNvSpPr/>
          <p:nvPr/>
        </p:nvSpPr>
        <p:spPr>
          <a:xfrm>
            <a:off x="1784520" y="6024240"/>
            <a:ext cx="58179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a"/>
                </a:solidFill>
                <a:latin typeface="Arial"/>
              </a:rPr>
              <a:t>Yield =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2C sugar </a:t>
            </a:r>
            <a:r>
              <a:rPr b="1" lang="en-US" sz="3000" spc="-1" strike="noStrike">
                <a:solidFill>
                  <a:srgbClr val="00006a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NADH </a:t>
            </a:r>
            <a:r>
              <a:rPr b="1" lang="en-US" sz="3000" spc="-1" strike="noStrike">
                <a:solidFill>
                  <a:srgbClr val="00006a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CO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03720" y="2266200"/>
            <a:ext cx="1400760" cy="371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duction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30000" y="4987080"/>
            <a:ext cx="1370160" cy="371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xidation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57680" y="4185360"/>
            <a:ext cx="1908360" cy="371520"/>
          </a:xfrm>
          <a:prstGeom prst="roundRect">
            <a:avLst>
              <a:gd name="adj" fmla="val 16667"/>
            </a:avLst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enzyme 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72080" y="3503520"/>
            <a:ext cx="731880" cy="647640"/>
          </a:xfrm>
          <a:custGeom>
            <a:avLst/>
            <a:gdLst/>
            <a:ahLst/>
            <a:rect l="l" t="t" r="r" b="b"/>
            <a:pathLst>
              <a:path w="330" h="300">
                <a:moveTo>
                  <a:pt x="0" y="300"/>
                </a:moveTo>
                <a:cubicBezTo>
                  <a:pt x="10" y="250"/>
                  <a:pt x="20" y="200"/>
                  <a:pt x="75" y="150"/>
                </a:cubicBezTo>
                <a:cubicBezTo>
                  <a:pt x="130" y="100"/>
                  <a:pt x="230" y="50"/>
                  <a:pt x="330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71560" y="4399560"/>
            <a:ext cx="1862280" cy="371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yruvat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89600" y="4177440"/>
            <a:ext cx="1954440" cy="371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cetyl Co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60000" y="4796640"/>
            <a:ext cx="12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a"/>
                </a:solidFill>
                <a:latin typeface="Arial"/>
              </a:rPr>
              <a:t>C-C-C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278480" y="4574520"/>
            <a:ext cx="85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a"/>
                </a:solidFill>
                <a:latin typeface="Arial"/>
              </a:rPr>
              <a:t>C-C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73600" y="4351320"/>
            <a:ext cx="699840" cy="700200"/>
          </a:xfrm>
          <a:prstGeom prst="ellipse">
            <a:avLst/>
          </a:prstGeom>
          <a:solidFill>
            <a:srgbClr val="6f89f7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a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0006a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459240" y="2141640"/>
            <a:ext cx="1293480" cy="841320"/>
            <a:chOff x="3459240" y="2141640"/>
            <a:chExt cx="1293480" cy="841320"/>
          </a:xfrm>
        </p:grpSpPr>
        <p:sp>
          <p:nvSpPr>
            <p:cNvPr id="258" name=""/>
            <p:cNvSpPr/>
            <p:nvPr/>
          </p:nvSpPr>
          <p:spPr>
            <a:xfrm>
              <a:off x="3730680" y="230688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NAD</a:t>
              </a:r>
              <a:r>
                <a:rPr b="1" lang="en-US" sz="2400" spc="-1" strike="noStrike" baseline="30000">
                  <a:solidFill>
                    <a:srgbClr val="660066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59240" y="2141640"/>
              <a:ext cx="183960" cy="841320"/>
            </a:xfrm>
            <a:custGeom>
              <a:avLst/>
              <a:gdLst>
                <a:gd name="textAreaLeft" fmla="*/ 41760 w 183960"/>
                <a:gd name="textAreaRight" fmla="*/ 142200 w 183960"/>
                <a:gd name="textAreaTop" fmla="*/ 191880 h 841320"/>
                <a:gd name="textAreaBottom" fmla="*/ 649440 h 84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4921200" y="1990800"/>
            <a:ext cx="1052640" cy="8683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4222800" y="2801880"/>
            <a:ext cx="1262160" cy="534960"/>
          </a:xfrm>
          <a:custGeom>
            <a:avLst/>
            <a:gdLst/>
            <a:ahLst/>
            <a:rect l="l" t="t" r="r" b="b"/>
            <a:pathLst>
              <a:path w="815" h="392">
                <a:moveTo>
                  <a:pt x="0" y="5"/>
                </a:moveTo>
                <a:cubicBezTo>
                  <a:pt x="24" y="105"/>
                  <a:pt x="48" y="206"/>
                  <a:pt x="115" y="270"/>
                </a:cubicBezTo>
                <a:cubicBezTo>
                  <a:pt x="182" y="334"/>
                  <a:pt x="306" y="392"/>
                  <a:pt x="405" y="390"/>
                </a:cubicBezTo>
                <a:cubicBezTo>
                  <a:pt x="504" y="388"/>
                  <a:pt x="642" y="325"/>
                  <a:pt x="710" y="260"/>
                </a:cubicBezTo>
                <a:cubicBezTo>
                  <a:pt x="778" y="195"/>
                  <a:pt x="796" y="97"/>
                  <a:pt x="815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881640" y="5758920"/>
            <a:ext cx="7030440" cy="947520"/>
            <a:chOff x="881640" y="5758920"/>
            <a:chExt cx="7030440" cy="947520"/>
          </a:xfrm>
        </p:grpSpPr>
        <p:sp>
          <p:nvSpPr>
            <p:cNvPr id="263" name=""/>
            <p:cNvSpPr/>
            <p:nvPr/>
          </p:nvSpPr>
          <p:spPr>
            <a:xfrm>
              <a:off x="881640" y="5758920"/>
              <a:ext cx="105228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6a"/>
                  </a:solidFill>
                  <a:latin typeface="Arial"/>
                </a:rPr>
                <a:t>2 x </a:t>
              </a:r>
              <a:r>
                <a:rPr b="1" lang="en-US" sz="5600" spc="-1" strike="noStrike">
                  <a:solidFill>
                    <a:srgbClr val="00006a"/>
                  </a:solidFill>
                  <a:latin typeface="Arial"/>
                </a:rPr>
                <a:t>[</a:t>
              </a:r>
              <a:endParaRPr b="0" lang="en-US" sz="5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493760" y="5758920"/>
              <a:ext cx="41832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600" spc="-1" strike="noStrike">
                  <a:solidFill>
                    <a:srgbClr val="00006a"/>
                  </a:solidFill>
                  <a:latin typeface="Arial"/>
                </a:rPr>
                <a:t>]</a:t>
              </a:r>
              <a:endParaRPr b="0" lang="en-US" sz="5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2951280" y="3049560"/>
            <a:ext cx="531720" cy="82080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05000" y="3436920"/>
            <a:ext cx="480528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Krebs cycl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7720" y="149184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ka Citric Acid Cyc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mitochondrial matrix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8 step pathwa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ach catalyzed by specific enzym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tep-wise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atabolism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of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6C citrat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molecul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volved later than glycolysi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oes that make evolutionary sense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acteria </a:t>
            </a:r>
            <a:r>
              <a:rPr b="1" lang="en-US" sz="2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3.5 billion years ago </a:t>
            </a:r>
            <a:r>
              <a:rPr b="1" lang="en-US" sz="2400" spc="-1" strike="noStrike">
                <a:solidFill>
                  <a:srgbClr val="660000"/>
                </a:solidFill>
                <a:latin typeface="Arial"/>
              </a:rPr>
              <a:t>(glycolysis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ree 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2.7 billion years ago </a:t>
            </a:r>
            <a:r>
              <a:rPr b="1" lang="en-US" sz="2400" spc="-1" strike="noStrike">
                <a:solidFill>
                  <a:srgbClr val="005c00"/>
                </a:solidFill>
                <a:latin typeface="Arial"/>
              </a:rPr>
              <a:t>(photosynthesis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ukaryotes </a:t>
            </a:r>
            <a:r>
              <a:rPr b="1" lang="en-US" sz="2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1.5 billion years ago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aerobic respiration = organelles </a:t>
            </a:r>
            <a:r>
              <a:rPr b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mitochondria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7512120" y="906480"/>
            <a:ext cx="1454040" cy="205740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270" name=""/>
          <p:cNvSpPr/>
          <p:nvPr/>
        </p:nvSpPr>
        <p:spPr>
          <a:xfrm>
            <a:off x="6606720" y="303840"/>
            <a:ext cx="2456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1937 </a:t>
            </a:r>
            <a:r>
              <a:rPr b="1" lang="en-US" sz="3400" spc="-1" strike="noStrike">
                <a:solidFill>
                  <a:srgbClr val="000005"/>
                </a:solidFill>
                <a:latin typeface="Arial"/>
                <a:ea typeface="ＭＳ Ｐゴシック"/>
              </a:rPr>
              <a:t>| </a:t>
            </a:r>
            <a:r>
              <a:rPr b="1" lang="en-US" sz="34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1953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32200" y="2939400"/>
            <a:ext cx="159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Hans Kreb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1900-198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im B. Foglia</cp:lastModifiedBy>
  <cp:lastPrinted>2007-12-21T05:51:06Z</cp:lastPrinted>
  <dcterms:modified xsi:type="dcterms:W3CDTF">2009-01-11T21:55:51Z</dcterms:modified>
  <cp:revision>78</cp:revision>
  <dc:subject/>
  <dc:title> Cellular Respiration   Oxidation of Pyruvate   Krebs Cycle</dc:title>
</cp:coreProperties>
</file>